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0D71-6F11-42C5-B59C-44043848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CB8-17C4-4279-80F7-79A1EE0C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09B-FD8C-48C2-AF2F-5233CD01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4284-4C95-46BB-B034-C08A46F4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06CA-9391-4589-8B0B-851B5908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1E12-B628-4413-A49C-93D922A2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91D2-725E-4AA1-AC59-D02DB07F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7148-5994-4B0E-ABB6-CEC4AB74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DC55-E1C4-47F0-A2F7-5B9D488F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40BC-FBEA-4CA4-9E8A-A7E13157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E175-918A-44C9-A83B-FFEA5FAA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41B-16A4-4838-B46D-459B621B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1286-AD7D-4F9F-9DA2-E950F0FC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A84B-0DD3-4181-B2B9-C9723EDD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9BF1-4DC4-43B6-819E-02F5DF7A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4BE1-0BC5-4847-B899-B5EB724B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C709-F0C0-4D25-BD30-1327205B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7893-194D-4026-8E27-4D6E7B76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066-2077-4A38-BA18-ED5ED8EF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F49-5183-4F88-A134-0220464C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EF91-75CB-4026-A44F-207290B9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1DC-E562-4708-8AD3-B8AA34DA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4B0-169F-4E9C-BF68-403903F4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93C-5A99-4EAD-9FD4-ECBE0F3A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BC0B-1799-493E-BAB5-EEF8272F77C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B093-57A2-4E5D-9A6A-C1240B5FD41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zholop@vati.hu" TargetMode="External"/><Relationship Id="rId2" Type="http://schemas.openxmlformats.org/officeDocument/2006/relationships/hyperlink" Target="http://www.hu-sk.cbc.e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 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-sk.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1-25T18:45:50Z</dcterms:modified>
  <cp:revision>30</cp:revision>
  <dc:subject/>
  <dc:title>1. dia</dc:title>
</cp:coreProperties>
</file>