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7CD-4F3A-4FC3-A9E4-0F8DA81E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E4E-F030-4740-82B8-EBA075BC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CB2-DB53-46BC-B12B-32DB81AB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AD89-0FB1-4692-9DD9-BB8A41D5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75DE-BE33-44D1-A07A-016E6602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7E35-0D78-461B-9182-89EE19F5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0FBC-05A1-4506-B818-E8D28A49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2DE4-9B4D-46A8-91AC-A0B3164F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C8DA-2F1C-4C25-9517-1A7973DA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3165-AFF5-4C59-9CBC-FDB34D57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9619-F00B-4AEE-BE6A-E18CCF76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C507-D185-4E07-8CA7-3C016EBF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C957-5448-4DCA-9848-F9A88123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10C9-B646-482A-8F81-5A011996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4CBB-8BA8-4C25-A47F-9AD6CACC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A2F8-D00A-472A-B376-C5B9820A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2881-6D1E-4692-AD52-972CBAB0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18C-761D-49A0-9C6E-B4019C57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1ED2-2F1F-43E0-BBC9-82B01FCD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82A-F437-4937-B0D8-17D07A3D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64EF-5A2F-40ED-B80A-8B10EB7E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413-94F0-4492-8577-93BEB6B9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CCC3-40BF-41B1-9989-7F39EDC8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6F67-7FD5-47C3-B376-48C9C60F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457A-D385-425E-B550-D49AA81AE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9D5C-E36D-4E3D-A6DB-447605802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6. Győ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DaxlinePro-Regular"/>
              </a:rPr>
              <a:t>Elvárásain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For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gy Vezető Partner és egy 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Szak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innovatív projek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sélyegyenlőségi feltételek teljesítése (min.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fenntartható fejlődés feltételeinek teljesítése (min.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Előfeltétel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reális, fenntartható partnerség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kölcsönös biz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megfelelő kommunikáci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jóváhagyott projekt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előkészítési költségei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</a:t>
            </a:r>
            <a:r>
              <a:rPr b="0" i="1" lang="hu-HU" sz="2000" spc="-1" strike="noStrike">
                <a:solidFill>
                  <a:srgbClr val="cc0000"/>
                </a:solidFill>
                <a:latin typeface="DaxlinePro-Regular"/>
              </a:rPr>
              <a:t>projekt partnerenként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a teljes elszámolható költség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 (megval.tan, tervdok., engedélyezés, közbesz., fordítás, KH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jogosult területen kívül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megvalósítandó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tevékeny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költsége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a meg a projekt elszámolható összköltségének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megvásárolt föld csak akkor szerepelhet az elszámolható költségek között, ha nem haladja meg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teljes elszámolható költségek 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rezsikölt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projektenként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személyi jellegű ráfordítások 25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DaxlinePro-Regular"/>
              </a:rPr>
              <a:t>Vezető Partner nyilatkoza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(a nyomtatvány elérhető magyar VP-nek magyarul, szlovák VP-nek szlovákul) - nyomtatva, törvényes képviselő által aláírva és lepecsételv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cc0000"/>
                </a:solidFill>
                <a:latin typeface="DaxlinePro-Regular"/>
              </a:rPr>
              <a:t>Partnerségi nyilatkozat</a:t>
            </a: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 (az összes támogatásban részesülő partner törvényes képviselője által aláírva)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nyomtatva, törvényes képviselő által aláírva és lepecsétel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1. melléklet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Amennyiben a partnerek az együttműködési kritériumok közül a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„Közös fejlesztés”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2. melléklet - A projekt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fenntarthatóságá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3. melléklet - Az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esélyegyenlősége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lyamatá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827440" y="1600200"/>
            <a:ext cx="1257120" cy="5716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ó, a KSZT és a RIP támogatásá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27440" y="32004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 R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7440" y="4343400"/>
            <a:ext cx="1257120" cy="4572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/vagy külső szakértő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7440" y="50292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56240" y="17146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 kidolgoz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924280"/>
            <a:ext cx="20574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 benyújtása/befogad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3573360"/>
            <a:ext cx="2057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ormai és jogosultsági ellenőrz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2637000"/>
            <a:ext cx="93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ánypótlás (az értékelési táblában rögzített, előre meghatározott esetekb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27760" y="3314880"/>
            <a:ext cx="800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28040" y="3085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28040" y="1942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399080" y="1943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27840" y="2171880"/>
            <a:ext cx="1208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ismétel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99160" y="2057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99160" y="25146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4840" y="2171880"/>
            <a:ext cx="10555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2040" y="25146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2040" y="20574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56240" y="44578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ok szakmai értékelé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41760" y="2629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41760" y="411480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7760" y="262908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41760" y="265284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27840" y="41148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6240" y="5029200"/>
            <a:ext cx="2743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ok kiválasztása, támogatási dön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27840" y="4800600"/>
            <a:ext cx="144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birikiarianna</cp:lastModifiedBy>
  <dcterms:modified xsi:type="dcterms:W3CDTF">2011-01-25T16:19:38Z</dcterms:modified>
  <cp:revision>52</cp:revision>
  <dc:subject/>
  <dc:title>Info nap 3. pályázati felhívás</dc:title>
</cp:coreProperties>
</file>