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7.png" ContentType="image/png"/>
  <Override PartName="/ppt/media/image4.png" ContentType="image/png"/>
  <Override PartName="/ppt/media/image3.wmf" ContentType="image/x-wmf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A531-F8A7-4D57-A6DC-7E7583D79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C7F3-E138-49F7-9793-01F580CCD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1ADF-0A8D-4274-AC40-CF8D31C5E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8B2C-DB1C-48D4-9291-23E04C6B2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436A6-E6DC-4444-85CA-4CD6DF2B9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66AB9-047D-4AD9-B299-5FA1B86ED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123CE-2493-49DA-B4BD-39B0F653E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491AC-3897-4162-ADA7-80AE0A68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B4AA3-3669-4D20-8A38-5D2A729D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05314-D64B-419C-B709-B1E115679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B4A81-ADCF-4531-9EA6-68835681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C25C-C6CD-4FE8-B42C-64B83AD80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3E53F-B037-4A0B-A887-531C6E64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52E07-F5F5-4259-9D44-C63C389D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FA6EF-0994-49C0-81B9-010028848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F73A7-2BBD-4710-A769-4DF87BC98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A1FE9-9973-4808-8EE1-27178866E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3EBD-C67D-4797-BE49-BD0ED5120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FCC5-5717-486E-BC98-15B036585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1BF0-D708-4E8D-9B15-90E611CC2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8210-155D-4912-B12B-DD14B80E3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6B2E-2B42-4722-9C2E-A1678B13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F9C8-3736-4C75-B540-F41818AB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5DDE-4FCE-41DA-9E0E-D2B22A5A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08D43-591F-4DBB-9A4B-A98A878989D2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459BC-364F-4EF9-8279-0E70A982F4DC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husk-cbc.eu/" TargetMode="External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mailto:szholop@vati.hu" TargetMode="External"/><Relationship Id="rId2" Type="http://schemas.openxmlformats.org/officeDocument/2006/relationships/hyperlink" Target="http://www.hu-sk.cbc.eu/" TargetMode="External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IMIR 2007-2013 Monitoring és Információs Rendszer</a:t>
            </a:r>
            <a:r>
              <a:rPr b="0" lang="hu-H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898989"/>
                </a:solidFill>
                <a:latin typeface="Calibri"/>
              </a:rPr>
              <a:t>A harmadik kiírás online felületének bemutatá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zövegdoboz 7"/>
          <p:cNvSpPr/>
          <p:nvPr/>
        </p:nvSpPr>
        <p:spPr>
          <a:xfrm>
            <a:off x="5429160" y="1643040"/>
            <a:ext cx="35719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– partner adatainak megtekin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W – új partner hozzáadása a partner típusának megválasztásáv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iválasztás után megjelenik a PARTNERSHIP képernyő, amely három fület tartalmaz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ás (Identific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pviselők (Representativ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Üzleti adatok (Business d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– partner adatainak módosí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– a partner törl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162400" cy="2143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"/>
          <p:cNvPicPr/>
          <p:nvPr/>
        </p:nvPicPr>
        <p:blipFill>
          <a:blip r:embed="rId2"/>
          <a:stretch/>
        </p:blipFill>
        <p:spPr>
          <a:xfrm>
            <a:off x="642960" y="2500200"/>
            <a:ext cx="2430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zövegdoboz 5"/>
          <p:cNvSpPr/>
          <p:nvPr/>
        </p:nvSpPr>
        <p:spPr>
          <a:xfrm>
            <a:off x="71280" y="1181160"/>
            <a:ext cx="69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\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zövegdoboz 7"/>
          <p:cNvSpPr/>
          <p:nvPr/>
        </p:nvSpPr>
        <p:spPr>
          <a:xfrm>
            <a:off x="6357960" y="1643040"/>
            <a:ext cx="2643120" cy="35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 név, cím, adószám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 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Jogi státusz (közjogi, központi, magánjogi), alkalmazottak száma, levelezési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mennyiben nem biztos valamely adatok tartalmában, kérjük használja a pályázati útmutatót illetve az IMIR kézikönyv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zövegdoboz 5"/>
          <p:cNvSpPr/>
          <p:nvPr/>
        </p:nvSpPr>
        <p:spPr>
          <a:xfrm>
            <a:off x="71280" y="1181160"/>
            <a:ext cx="69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\Represent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zövegdoboz 7"/>
          <p:cNvSpPr/>
          <p:nvPr/>
        </p:nvSpPr>
        <p:spPr>
          <a:xfrm>
            <a:off x="6500880" y="160344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NTACT PER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EGAL REPRESENT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örvényes képviselő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LAPÍTÓ SZER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bban az esetben kell kitölteni, ha a Partner egy másik szervezet közvetlen irányítása alatt működik. (pl. a megye által működtetett középiskola stb. esetében a megyei önkormányza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315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ARTNERSHIP\Business D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zövegdoboz 7"/>
          <p:cNvSpPr/>
          <p:nvPr/>
        </p:nvSpPr>
        <p:spPr>
          <a:xfrm>
            <a:off x="6000840" y="1285920"/>
            <a:ext cx="30002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acity/Project management experience of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formációk a partner korábbi projektirányítási tapasztalatairól (Projektcím, költségvetés, részvétel típusa st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ast closed budgetary year (utolsó lezárt üzleti é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utolsó üzleti évére vonatkozó információk (bevétel, kiadás, eredmény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ocations (helyszíne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alamennyi helyszín, ahol a projektet vagy annak bizonyos részeit végrehajtjá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ank accou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végrehajtása szempontjából releváns 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7704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COOPERATION CRITER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zövegdoboz 7"/>
          <p:cNvSpPr/>
          <p:nvPr/>
        </p:nvSpPr>
        <p:spPr>
          <a:xfrm>
            <a:off x="5929200" y="1643040"/>
            <a:ext cx="30006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Z EGYÜTTMŰKÖDÉS MÓD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üttműködés szintje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fejlesz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végrehaj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végrehajtás közös finanszíroz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személy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álassza ki az egyik kritériumot úgy, hogy rákattint, majd válassza ki a baloldalon található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Value (érték)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ző legördülő listájának egyik elemét, és magyarázza vagy indokolja a választást a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Description (leírás)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mezőben. Ismételje meg a folyamatot valamennyi kritérium eseté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6433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ROJECT DESCRIP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zövegdoboz 7"/>
          <p:cNvSpPr/>
          <p:nvPr/>
        </p:nvSpPr>
        <p:spPr>
          <a:xfrm>
            <a:off x="5715000" y="1643040"/>
            <a:ext cx="3214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CT DESCRI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ojektleírá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lamennyi témáról részletes, összefüggő leírásokat kell 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214200" y="1714680"/>
            <a:ext cx="5372280" cy="2233440"/>
          </a:xfrm>
          <a:prstGeom prst="rect">
            <a:avLst/>
          </a:prstGeom>
          <a:ln w="0">
            <a:noFill/>
          </a:ln>
        </p:spPr>
      </p:pic>
      <p:pic>
        <p:nvPicPr>
          <p:cNvPr id="125" name="Szövegdoboz 6" descr=""/>
          <p:cNvPicPr/>
          <p:nvPr/>
        </p:nvPicPr>
        <p:blipFill>
          <a:blip r:embed="rId2"/>
          <a:stretch/>
        </p:blipFill>
        <p:spPr>
          <a:xfrm>
            <a:off x="133200" y="4206960"/>
            <a:ext cx="8913960" cy="16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OBJECTIVES AND ACTIVI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"/>
          <p:cNvPicPr/>
          <p:nvPr/>
        </p:nvPicPr>
        <p:blipFill>
          <a:blip r:embed="rId2"/>
          <a:stretch/>
        </p:blipFill>
        <p:spPr>
          <a:xfrm>
            <a:off x="142920" y="2928960"/>
            <a:ext cx="5241960" cy="3071880"/>
          </a:xfrm>
          <a:prstGeom prst="rect">
            <a:avLst/>
          </a:prstGeom>
          <a:ln w="0">
            <a:noFill/>
          </a:ln>
        </p:spPr>
      </p:pic>
      <p:sp>
        <p:nvSpPr>
          <p:cNvPr id="129" name="Szövegdoboz 10"/>
          <p:cNvSpPr/>
          <p:nvPr/>
        </p:nvSpPr>
        <p:spPr>
          <a:xfrm>
            <a:off x="5500800" y="1643040"/>
            <a:ext cx="32144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KT TEVÉKENYSÉGEINEK LISTÁ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tevékenységek kapcsán az alábbi adatokat kell megadn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elős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gyéb a megvalósításba bevont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leír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ockáz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eleváns periódu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várható költsé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(segít annak azonosításában, hogy az adott tevékenység megfelelő arányt képvisel a projekten bel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zövegdoboz 5"/>
          <p:cNvSpPr/>
          <p:nvPr/>
        </p:nvSpPr>
        <p:spPr>
          <a:xfrm>
            <a:off x="71280" y="1181160"/>
            <a:ext cx="5286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zövegdoboz 10"/>
          <p:cNvSpPr/>
          <p:nvPr/>
        </p:nvSpPr>
        <p:spPr>
          <a:xfrm>
            <a:off x="6286680" y="142920"/>
            <a:ext cx="2714400" cy="56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öltségvet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Felső rész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 projekt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lsó rész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 partner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artnerszintű költségve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artnertábláz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3 költségvetési fü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társfinanszírozási forrás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Source of co-financing of selected partn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észletes partneri költségvetési táblázat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Detailed partner budget 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költségeinek teljes előrejelzése periódusonként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otal spending forecast for selected partner per period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53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zövegdoboz 5"/>
          <p:cNvSpPr/>
          <p:nvPr/>
        </p:nvSpPr>
        <p:spPr>
          <a:xfrm>
            <a:off x="71280" y="1181160"/>
            <a:ext cx="5286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Travel and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zövegdoboz 10"/>
          <p:cNvSpPr/>
          <p:nvPr/>
        </p:nvSpPr>
        <p:spPr>
          <a:xfrm>
            <a:off x="6286680" y="1643040"/>
            <a:ext cx="27144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rnal servic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(4) 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ipment cost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költségvetési sorok alatt harmadik szintű költségvetési alsorokat talál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ható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melyeknek nincs pontos ne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bben az esetben Önnek kell eldöntenie, hogy a költségvetési alsorok közül mennyire van szüksége, és hogyan szeretné kiadásait csoportosítani a fenti számok alatt, hogy ezek a legérthetőbb logikát tükrözzé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00840" cy="2968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"/>
          <p:cNvPicPr/>
          <p:nvPr/>
        </p:nvPicPr>
        <p:blipFill>
          <a:blip r:embed="rId2"/>
          <a:stretch/>
        </p:blipFill>
        <p:spPr>
          <a:xfrm>
            <a:off x="857160" y="3214800"/>
            <a:ext cx="3071880" cy="2068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"/>
          <p:cNvPicPr/>
          <p:nvPr/>
        </p:nvPicPr>
        <p:blipFill>
          <a:blip r:embed="rId3"/>
          <a:stretch/>
        </p:blipFill>
        <p:spPr>
          <a:xfrm>
            <a:off x="1214280" y="4143240"/>
            <a:ext cx="4929480" cy="205740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zövegdoboz 10"/>
          <p:cNvSpPr/>
          <p:nvPr/>
        </p:nvSpPr>
        <p:spPr>
          <a:xfrm>
            <a:off x="6286680" y="1643040"/>
            <a:ext cx="2714400" cy="27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Választott partner társfinanszírozási forr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es mezők automatikusan számolódnak ki a partnerek jogi státuszának tükréb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mennyiben magánjogi szervezet bevételekre tesz szert a projektmegvalósítás során, úgy annak tervezett  mértékét itt kell meg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1"/>
          <a:stretch/>
        </p:blipFill>
        <p:spPr>
          <a:xfrm>
            <a:off x="120600" y="1673280"/>
            <a:ext cx="616428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zövegdoboz 5"/>
          <p:cNvSpPr/>
          <p:nvPr/>
        </p:nvSpPr>
        <p:spPr>
          <a:xfrm>
            <a:off x="428760" y="1344600"/>
            <a:ext cx="771516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Application (pályázati) mod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harmadik kiírás pályázatait az IMIR Front Office Application moduljának segítségével kell összeállítani és benyújta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Papír alapon csak - az eredeti aláírásokkal ellátott – függelékeket kell benyújtani (pl. Vezető Partner nyilatkozata, Partnerségi nyilatkozat, fenntartható fejlődést biztosító intézkedések, stb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pályázati űrlapot nem szükséges kinyomtatni, továbbá az elektronikus formában elérhető függelékek és egyéb támogató dokumentumok példányai is feltölthetőek a Front Office felületen kereszt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pályázati modul elérhető a honlapunkon a pályázati kiírás oldalán: </a:t>
            </a:r>
            <a:r>
              <a:rPr b="0" lang="sk-SK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husk-cbc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zövegdoboz 10"/>
          <p:cNvSpPr/>
          <p:nvPr/>
        </p:nvSpPr>
        <p:spPr>
          <a:xfrm>
            <a:off x="6286680" y="1357200"/>
            <a:ext cx="27144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lőrejelzésre a program költségvetésének kifizetési ütemezésének megtervezéséhez van szük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egadott összegek tájékoztató jellegűek, azonban a tervezett ütemezéstől való jelentős eltérés esetén a program a pénzügyi kötelezettségvállalás visszavonásának tárgya leh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e feledje, hogy a programban a visszafizetés hosszú, kétszintű folyamat, vagyis 4-5 hónap is eltelhet a kifizetett számlák benyújtásától az ellenőrző testületeknek addig, míg az ERFA támogatás összege kifizetésre kerü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10704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INDICATO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zövegdoboz 10"/>
          <p:cNvSpPr/>
          <p:nvPr/>
        </p:nvSpPr>
        <p:spPr>
          <a:xfrm>
            <a:off x="6286680" y="1214280"/>
            <a:ext cx="2714400" cy="45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gram által meghatározott mutató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Ön saját projekt-specifikus mutató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áblázat a program által meghatározott mutatókat jeleníti me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 Modify gombra kattint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beállíthatja alapértéküke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célértéküket és kiválaszthatja megvalósításuk időszaká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datory oszlop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TS által kötelezővé tet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t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a nincs bejelölés, Öntől függ, hogy szeretné-e a használni a projekt során (releváns-e a projekt szempontjából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MEANS OF COMMUNI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zövegdoboz 10"/>
          <p:cNvSpPr/>
          <p:nvPr/>
        </p:nvSpPr>
        <p:spPr>
          <a:xfrm>
            <a:off x="6286680" y="142920"/>
            <a:ext cx="271440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ad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n kommunikációs eszközök kiválasztása az előre meghatározott listából, amelyek használatát tervezi a projekt végrehajtása sorá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gyéb olyan kommunikációs eszköz leírása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Other tools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zőben, amelyek használatát tervezi, de amelyek nem jelennek meg az előre meghatározott listá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3197160" cy="3214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"/>
          <p:cNvPicPr/>
          <p:nvPr/>
        </p:nvPicPr>
        <p:blipFill>
          <a:blip r:embed="rId2"/>
          <a:stretch/>
        </p:blipFill>
        <p:spPr>
          <a:xfrm>
            <a:off x="3000240" y="3429000"/>
            <a:ext cx="56437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ERMI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zövegdoboz 10"/>
          <p:cNvSpPr/>
          <p:nvPr/>
        </p:nvSpPr>
        <p:spPr>
          <a:xfrm>
            <a:off x="6215040" y="1643040"/>
            <a:ext cx="2714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jekt megvalósításához szükséges engedélyek listá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ngedély adata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 (Type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ás (Description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kiadásának időpontja (Issue date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érvényességének vége (Valid until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ó (ID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9659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CHECKLIS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zövegdoboz 10"/>
          <p:cNvSpPr/>
          <p:nvPr/>
        </p:nvSpPr>
        <p:spPr>
          <a:xfrm>
            <a:off x="4286160" y="1643040"/>
            <a:ext cx="42148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Táblázatos formában elkészített ellenőrzől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érdések automatikusan kitöltésre kerülne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ónak Igen/Nem választ kell adnia a jelölőnégyzetre kattint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érjük, menjen végig a lista valamennyi elemén, különben a rendszer hibát jelez az Ellenőrzési riport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07196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ANNEX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zövegdoboz 10"/>
          <p:cNvSpPr/>
          <p:nvPr/>
        </p:nvSpPr>
        <p:spPr>
          <a:xfrm>
            <a:off x="6215040" y="1643040"/>
            <a:ext cx="278604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knak a mellékleteknek a listája, amelyeket a pályázattal együtt kell benyújt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tt látható a melléklet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záma (Code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és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íme (Name),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hogy kötelező-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(Mandator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vagy sem, és hogy milyen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satornán (Channel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keresztül kell beküldeni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gjelölheti, hogy egy adott mellékletet csatolt/elküldött-e, és ha igen, hány példány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087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TTACHM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zövegdoboz 10"/>
          <p:cNvSpPr/>
          <p:nvPr/>
        </p:nvSpPr>
        <p:spPr>
          <a:xfrm>
            <a:off x="5429160" y="1214280"/>
            <a:ext cx="35719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dokumentumok feltöltésére és létrehozására szolg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Upload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segítségével csatolhatja a pályázathoz a szükséges támogató dokumentumok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használatával a rendszer 4 dokumentumot állít elő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ályázati la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artnerségi nyilatkoza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P nyilatkozat HU/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alamennyi dokumentum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.pdf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ormátumban érhető e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generált dokumentumokat a rendszer automatikusan lementi és megjeleníti a táblázatban. Ezeket ki is nyomtathatja.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létrehozott dokumentumok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ttachment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ülben bármikor lekérhető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"/>
          <p:cNvPicPr/>
          <p:nvPr/>
        </p:nvPicPr>
        <p:blipFill>
          <a:blip r:embed="rId1"/>
          <a:stretch/>
        </p:blipFill>
        <p:spPr>
          <a:xfrm>
            <a:off x="142920" y="1611360"/>
            <a:ext cx="51433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zövegdoboz 5"/>
          <p:cNvSpPr/>
          <p:nvPr/>
        </p:nvSpPr>
        <p:spPr>
          <a:xfrm>
            <a:off x="1500120" y="121428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 pályázat benyújtásának folyam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églalap 6"/>
          <p:cNvSpPr/>
          <p:nvPr/>
        </p:nvSpPr>
        <p:spPr>
          <a:xfrm>
            <a:off x="214200" y="1619280"/>
            <a:ext cx="87156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ztráció és bejelnetke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szükséges adatok felv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lenőrzése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A hiányzó adatok feltöltése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ső ellenőrzése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 – eredmény: Sikeres ellenőr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okumentumok feltöltése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 A pályázathoz szükséges dokumentumok elektornikus  változatának feltölté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leges dokumentumainak létrehozása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ektronikus benyújtása a JTS felé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ubmi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Időszakos ellenőrzése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gomb segítségével bármikor ellenőrizheti a pályázat hiányzó adat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Dokumentumok megtekintés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– A pályázat adatainak feltöltése során bármikor 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gombra kattintva létrehozhatja és megtekintheti a pályázati formanyomtatványt .pdf formátumb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zövegdoboz 5"/>
          <p:cNvSpPr/>
          <p:nvPr/>
        </p:nvSpPr>
        <p:spPr>
          <a:xfrm>
            <a:off x="1571760" y="207180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Köszönöm a figyelme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églalap 6"/>
          <p:cNvSpPr/>
          <p:nvPr/>
        </p:nvSpPr>
        <p:spPr>
          <a:xfrm>
            <a:off x="285840" y="3286080"/>
            <a:ext cx="87152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U-SK JOINT TECHNICAL SECRETARI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Holop Szilvesz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gramme 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szholop@vati.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hu-sk.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zövegdoboz 5"/>
          <p:cNvSpPr/>
          <p:nvPr/>
        </p:nvSpPr>
        <p:spPr>
          <a:xfrm>
            <a:off x="428760" y="1281240"/>
            <a:ext cx="771516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ndszerkövetelmén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kapcso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ációs rendszer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gyéb szoftver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Microsoft Office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Adobe Reader/Pdf 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Java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legújabb verzi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Innen letölthető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böngésző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 Internet Explorer 6.0 vagy újabb verzió/ Mozilla Firefox 3.0 vagy újabb verz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zövegdoboz 5"/>
          <p:cNvSpPr/>
          <p:nvPr/>
        </p:nvSpPr>
        <p:spPr>
          <a:xfrm>
            <a:off x="214200" y="121428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Bejelentk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"/>
          <p:cNvPicPr/>
          <p:nvPr/>
        </p:nvPicPr>
        <p:blipFill>
          <a:blip r:embed="rId1"/>
          <a:stretch/>
        </p:blipFill>
        <p:spPr>
          <a:xfrm>
            <a:off x="214200" y="1785960"/>
            <a:ext cx="4608720" cy="1714320"/>
          </a:xfrm>
          <a:prstGeom prst="rect">
            <a:avLst/>
          </a:prstGeom>
          <a:ln w="0">
            <a:noFill/>
          </a:ln>
        </p:spPr>
      </p:pic>
      <p:sp>
        <p:nvSpPr>
          <p:cNvPr id="88" name="Szövegdoboz 3"/>
          <p:cNvSpPr/>
          <p:nvPr/>
        </p:nvSpPr>
        <p:spPr>
          <a:xfrm>
            <a:off x="214200" y="36813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gisztr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"/>
          <p:cNvPicPr/>
          <p:nvPr/>
        </p:nvPicPr>
        <p:blipFill>
          <a:blip r:embed="rId2"/>
          <a:srcRect l="31169" t="41029" r="31278" b="40959"/>
          <a:stretch/>
        </p:blipFill>
        <p:spPr>
          <a:xfrm>
            <a:off x="214200" y="4286160"/>
            <a:ext cx="4572000" cy="1755720"/>
          </a:xfrm>
          <a:prstGeom prst="rect">
            <a:avLst/>
          </a:prstGeom>
          <a:ln w="0">
            <a:noFill/>
          </a:ln>
        </p:spPr>
      </p:pic>
      <p:sp>
        <p:nvSpPr>
          <p:cNvPr id="90" name="Szövegdoboz 7"/>
          <p:cNvSpPr/>
          <p:nvPr/>
        </p:nvSpPr>
        <p:spPr>
          <a:xfrm>
            <a:off x="4929120" y="1793880"/>
            <a:ext cx="3929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User name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ármi, de megjegyezhető (pl. a szervezet ne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rendszer 5-10 perc múlva elküldi a jelszót, amely 1 óráig érvény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ejelentkezés után meg kell változtatnia jelszavá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lyan új jelszót kell választania, amely legalább 8 karakter hosszú,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is- és nagybetűket, valamint számokat is tartalma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lfelejtett jelszó esetén a rendszer által generált új jelszó max. 1 órán át érvény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zövegdoboz 5"/>
          <p:cNvSpPr/>
          <p:nvPr/>
        </p:nvSpPr>
        <p:spPr>
          <a:xfrm>
            <a:off x="71280" y="11811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Üdvözlő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zövegdoboz 7"/>
          <p:cNvSpPr/>
          <p:nvPr/>
        </p:nvSpPr>
        <p:spPr>
          <a:xfrm>
            <a:off x="5572080" y="1071720"/>
            <a:ext cx="32148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reate New Applic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j pályázat összeállít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indig ellenőrizze a View Applications menüpont alatt, hogy van-e már megkezdett pályáz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ontinue Applic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folytathatja a pályázatához szükséges adatok bevitelé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at kitöltése bármikor megszakítható – a rögzített adatok mentésre kerüln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nnyiben már benyújtotta pályázatát, 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 má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öbbé nem módosíth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mend Applic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ódosíthatja azokat a pályázatokat, amelyeket a JTS kiegészítés vagy módosítás céljából visszaküldöt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35788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zövegdoboz 7"/>
          <p:cNvSpPr/>
          <p:nvPr/>
        </p:nvSpPr>
        <p:spPr>
          <a:xfrm>
            <a:off x="5429160" y="1643040"/>
            <a:ext cx="357192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jlé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lapbeállítás szerint üres, inaktí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sőbb, automatikusan töltődik 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Gombo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- az egész pályázatot törli, és teljes adatvesztéshez 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CHECK - a rendszer előre meghatározott, beépített algoritmusok és szabályok alapján ellenőrzi a pályázat tartalmá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XT – sikeres ellenőrzés után a benyújtás folyta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UBMIT – az ellenőrzött és megfelelően kitöltött pályázatot benyúj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XIT – a képernyő elhagyása (valamennyi adat automatikusan mentésre ker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zövegdoboz 7"/>
          <p:cNvSpPr/>
          <p:nvPr/>
        </p:nvSpPr>
        <p:spPr>
          <a:xfrm>
            <a:off x="5429160" y="1643040"/>
            <a:ext cx="3571920" cy="33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VERVIEW – megjeleníti a pályázat legfontosabb általános és pénzügyi adatait. Valamennyi mező inaktív, adatbevitelre itt nincs lehető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HEETS TO FILL IN – leírhatja és részletezheti a tervezett projektet. A táblázat soraihoz úgynevezett alképernyők tartoznak, amelyek a projekt különböző részeire vonatkozna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TTACHMETS – dokumentumok feltöltésére és létrehozására szolgá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zövegdoboz 7"/>
          <p:cNvSpPr/>
          <p:nvPr/>
        </p:nvSpPr>
        <p:spPr>
          <a:xfrm>
            <a:off x="5429160" y="1643040"/>
            <a:ext cx="35719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(Megnéz) - az adatok áttekintésé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– az adatok szerkesztését vagy módosításá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78620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MAI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zövegdoboz 7"/>
          <p:cNvSpPr/>
          <p:nvPr/>
        </p:nvSpPr>
        <p:spPr>
          <a:xfrm>
            <a:off x="5429160" y="1643040"/>
            <a:ext cx="357192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TITLE - kifejező, de röv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CRONYM - &gt;25 karak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Y – kitöltéséhez szükséges a pályázati útmutató ismer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 – a projekt időtartama &gt;/=24 hón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08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22:11Z</dcterms:created>
  <dc:creator>holopszilveszter</dc:creator>
  <dc:description/>
  <dc:language>en-US</dc:language>
  <cp:lastModifiedBy>holopszilveszter</cp:lastModifiedBy>
  <dcterms:modified xsi:type="dcterms:W3CDTF">2011-01-25T18:45:50Z</dcterms:modified>
  <cp:revision>30</cp:revision>
  <dc:subject/>
  <dc:title>1. dia</dc:title>
</cp:coreProperties>
</file>