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8D5A9F-F041-4E62-8878-7A34FD1D57A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F7443A-9882-4951-9230-4C003CBA60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A99-D8A3-49BD-AEC1-4EB93984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D7B1-9D5F-4BEB-A2E7-4100C442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B07F-2D78-424A-9EEB-24C9A138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8BE-4472-4326-93BA-8D37C621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154-E08A-430F-98B7-CD22CF15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F74-853D-4CF3-8AA3-71D9AD95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25E-032E-49CF-BD02-BE144308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B78F-C2DE-4344-B995-F1E734CA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EEC1-AF0B-41B8-9636-BC8944EB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D7CC-FB44-4166-87F6-728332EA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803-73A1-433A-A507-2B46E1D1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776-A5E3-4A6C-8245-CA6848B0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A3D8-10C4-4159-8B6D-FAC0B66FE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rtner Search Forum, Lučenec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2. augus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L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23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-10584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a 1.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 EUR) – pomoc a rady poskytuje komunikačná manažérka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4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ýzva na predkladanie žia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truktúra Štúdie uskutočniteľ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or projektovej žiadosti – informatív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užívateľský manuál pre I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oprávnených výdav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+ Príručka pre prijímateľ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v HU/SK jazyko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nie je možné doplnenie/oprav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í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9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4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23. jún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 mes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9 855 581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1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8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5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04800"/>
            <a:ext cx="849636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investičné / mäkk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plánov a štúdií, tvorba sietí, kultúrne a spoločenské podujatia, výmena skúseností, propagačné materiály a aktivity a pod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5.1, 1.6.1, 1.6.2 a 1.7.1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vestičn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4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stavebné a rekonštrukčné práce, podpora podnikania, výskum a vývoj, turizmus, zdravotníctvo, ŽP, odpady, obnoviteľné zdroje, dopravná infraštruktúr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1.1, 1.2.1, 1.3.1, 1.4.1, 2.1.1, 2.2.1, 2.3.1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3.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nné delenie úloh a zodpoved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1500120"/>
          <a:ext cx="8229600" cy="441000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1044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1.6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é využívanie a rozvoj ľudských zdroj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1.6.2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tívy spolupráce na trhu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br>
                        <a:rPr sz="2400"/>
                      </a:b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upráca v oblasti vzdelávania dospelých a celoživotného vzdeláv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1-08-01T14:47:50Z</dcterms:modified>
  <cp:revision>127</cp:revision>
  <dc:subject/>
  <dc:title>1. dia</dc:title>
</cp:coreProperties>
</file>