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745098-5933-403E-8AD8-44F61BCF2C4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76E1F03-F58E-4BBD-AC4A-E1357BD9572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B9A3-FD78-49D2-8495-DF3C5391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08C9-8EA7-472E-916D-FD66F590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24BD-48D7-4ED5-8614-D1F3DB1D0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35F0-F26F-4DFA-8C54-A447FEA6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A348-5E69-4961-AC87-0A515265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16DD-7C1F-420C-AC16-92350BD7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08F6-D1A5-4FF1-A9C0-65FE0F7B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36F4-1DA6-4909-AEB8-8C090F4B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F2DE-D4AC-4FA7-8535-65157B7F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7E15-C804-401B-8A7F-72318B5A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0925-0B76-4863-8F53-CC9FAA69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0E36-1FCD-4391-95B0-BBD2B1BC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72A7-60B4-4A30-A3F6-829DD53DA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rtner Search Forum, Lučenec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2. augus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L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23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-10584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45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a 1.7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 EUR) – pomoc a rady poskytuje komunikačná manažérka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4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ýzva na predkladanie žiad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truktúra Štúdie uskutočniteľ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zor projektovej žiadosti – informatív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užívateľský manuál pre I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oprávnených výdav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+ Príručka pre prijímateľ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v HU/SK jazyko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nie je možné doplnenie/oprav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í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9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4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23. júna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 mes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9 855 581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1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8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5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504800"/>
            <a:ext cx="849636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investičné / mäkk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2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prava plánov a štúdií, tvorba sietí, kultúrne a spoločenské podujatia, výmena skúseností, propagačné materiály a aktivity a pod.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5.1, 1.6.1, 1.6.2 a 1.7.1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vestičn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24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- stavebné a rekonštrukčné práce, podpora podnikania, výskum a vývoj, turizmus, zdravotníctvo, ŽP, odpady, obnoviteľné zdroje, dopravná infraštruktúr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1.1, 1.2.1, 1.3.1, 1.4.1, 2.1.1, 2.2.1, 2.3.1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3.2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nné delenie úloh a zodpoved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57120" y="1500120"/>
          <a:ext cx="8229600" cy="441000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1044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1.6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é využívanie a rozvoj ľudských zdroj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1.6.2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ciatívy spolupráce na trhu prá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br>
                        <a:rPr sz="2400"/>
                      </a:b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upráca v oblasti vzdelávania dospelých a celoživotného vzdeláv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1-08-01T14:47:50Z</dcterms:modified>
  <cp:revision>127</cp:revision>
  <dc:subject/>
  <dc:title>1. dia</dc:title>
</cp:coreProperties>
</file>