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9516-9407-4C4E-AD52-0B2BB70A3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50A6-55DA-4A56-B3A0-4099D7FC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EDD7-834D-4DB8-B7DE-64481F72B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2444-2287-455C-BF97-D9EF9D1A5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B7DD-55AA-4A00-A00A-B4447AE6F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DC60-5781-4E49-A188-D42C42FC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B363-A3BC-4409-8A56-49D9B06E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08F8-4CF5-4239-8438-54B17C34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AB00A-27E8-417E-A3BF-9BEBDE1D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D3DF-D530-4861-B17B-742AB719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4C185-4C70-4F52-B3FC-AFB60FC5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CB44-5B75-44CB-8674-17820B47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CB95-6ED4-44B0-945F-97BA2C05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E8D8-783E-4AA2-9746-FCC7B969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25CD-CF23-4466-A94F-46EF0461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E855-0E20-4E12-BABD-C963EFB34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B445-2782-4EF0-92C9-B5F15E015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C7BB-DC98-4B99-9246-A63D3A15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443F-F169-4317-95A0-6940E39D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A6B4-994B-4E5D-960B-2E2808B5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0BC8-E2A3-495B-A086-5B8DAD6A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EBA8-A5C6-4034-BF62-4156CFCF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B191-7D43-4FD2-94EC-99622762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A5FB-1E36-4240-AE94-B259E184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1565-623B-4977-B09E-CCCFEE334477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AAA8-69B3-4118-8123-504160F95471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Monitoring és Információs Rendszer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A 4. pályázati kiírás online pályázati moduljának bemu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Fő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714680"/>
            <a:ext cx="357192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Ő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KT CÍ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fejező, nem túl hossz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ÖVID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ax 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2052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216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714240" y="2786040"/>
            <a:ext cx="33814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Azonos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500880" y="16430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ARTNER ADAT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ROJEKTRE VONATKOZÓ PARTNERAD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2136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Képvisel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71360" y="1714680"/>
            <a:ext cx="6213600" cy="4214520"/>
          </a:xfrm>
          <a:prstGeom prst="rect">
            <a:avLst/>
          </a:prstGeom>
          <a:ln w="0">
            <a:noFill/>
          </a:ln>
        </p:spPr>
      </p:pic>
      <p:sp>
        <p:nvSpPr>
          <p:cNvPr id="116" name="Szövegdoboz 7"/>
          <p:cNvSpPr/>
          <p:nvPr/>
        </p:nvSpPr>
        <p:spPr>
          <a:xfrm>
            <a:off x="6500880" y="171468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APCSOLATTAR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ÖRVÉNYES KÉPVISEL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7"/>
          <p:cNvSpPr/>
          <p:nvPr/>
        </p:nvSpPr>
        <p:spPr>
          <a:xfrm>
            <a:off x="6000840" y="1000080"/>
            <a:ext cx="30002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SZÁM / PROJEKTMEGVALÓSÍTÁSI TAPASZTAL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UTOLSÓ LEZÁRT ÜZLETI 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. MEGVALÓSÍTÁSÁNAK HELYSZÍ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91320" cy="3929040"/>
          </a:xfrm>
          <a:prstGeom prst="rect">
            <a:avLst/>
          </a:prstGeom>
          <a:ln w="0">
            <a:noFill/>
          </a:ln>
        </p:spPr>
      </p:pic>
      <p:sp>
        <p:nvSpPr>
          <p:cNvPr id="119" name="Szövegdoboz 6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Üzleti 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gyüttműködési kritéri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6000840" y="1746360"/>
            <a:ext cx="30002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Érték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Leírá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42920" y="1781280"/>
            <a:ext cx="572436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2857680" y="428760"/>
            <a:ext cx="6000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Projekt leí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6143760" y="1000080"/>
            <a:ext cx="2857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ax. karakterszám: 2000 +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Szövegdoboz 6" descr=""/>
          <p:cNvPicPr/>
          <p:nvPr/>
        </p:nvPicPr>
        <p:blipFill>
          <a:blip r:embed="rId1"/>
          <a:stretch/>
        </p:blipFill>
        <p:spPr>
          <a:xfrm>
            <a:off x="133200" y="4492800"/>
            <a:ext cx="8913960" cy="1616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592956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Célok és tevékenység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onatkozó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ervezett költ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-e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285840" y="2214720"/>
            <a:ext cx="442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10"/>
          <p:cNvSpPr/>
          <p:nvPr/>
        </p:nvSpPr>
        <p:spPr>
          <a:xfrm>
            <a:off x="6286680" y="171468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Finanszírozási forrá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részletes költségve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ütemez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6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21360" cy="31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Választott partner részletes költségveté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6286680" y="1553760"/>
            <a:ext cx="2643120" cy="37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Előkészítő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emélyi köl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Útiköltség és alapellátmány (napidíj és szállá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olgáltat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Beszerzések (Eszközö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Építési beruhá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Rezsi, működési és adminisztratív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42920" y="1857240"/>
            <a:ext cx="61167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zövegdoboz 5"/>
          <p:cNvSpPr/>
          <p:nvPr/>
        </p:nvSpPr>
        <p:spPr>
          <a:xfrm>
            <a:off x="428760" y="1344600"/>
            <a:ext cx="771516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hu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lovák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sk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pályázatot két nyelven kell kitölten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a megnyitott felület nyelvétől függetlenü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érjük tanulmányozzák az IMIR 2007-2013 Front Office Felhasználói Kézikönyvet, amely megtalálható a pályázati felhívás mellékletei közö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832520" cy="3286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357120" y="3357720"/>
            <a:ext cx="621504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zövegdoboz 10"/>
          <p:cNvSpPr/>
          <p:nvPr/>
        </p:nvSpPr>
        <p:spPr>
          <a:xfrm>
            <a:off x="6215040" y="1571760"/>
            <a:ext cx="2714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olgáltatások 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eszerzések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2548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142920" y="3357720"/>
            <a:ext cx="4819680" cy="2022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142920" y="4714920"/>
            <a:ext cx="300024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a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47" name="Szövegdoboz 6"/>
          <p:cNvSpPr/>
          <p:nvPr/>
        </p:nvSpPr>
        <p:spPr>
          <a:xfrm>
            <a:off x="142920" y="1143000"/>
            <a:ext cx="6572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Finanszírozási for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10"/>
          <p:cNvSpPr/>
          <p:nvPr/>
        </p:nvSpPr>
        <p:spPr>
          <a:xfrm>
            <a:off x="6286680" y="1643040"/>
            <a:ext cx="27144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Ütemez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51" name="Téglalap 6"/>
          <p:cNvSpPr/>
          <p:nvPr/>
        </p:nvSpPr>
        <p:spPr>
          <a:xfrm>
            <a:off x="142920" y="4929120"/>
            <a:ext cx="88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70c0"/>
                </a:solidFill>
                <a:latin typeface="Arial"/>
              </a:rPr>
              <a:t>Ne feledje, hogy a programban a visszafizetés hosszú, kétszintű folyamat, vagyis 4-6 hónap is eltelhet a kifizetett számlák benyújtásától az ellenőrző testületeknek addig, míg az ERFA támogatás összege kifizetésre ker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10"/>
          <p:cNvSpPr/>
          <p:nvPr/>
        </p:nvSpPr>
        <p:spPr>
          <a:xfrm>
            <a:off x="6286680" y="1643040"/>
            <a:ext cx="2714400" cy="34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káto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 és 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ÓDOSÍT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tel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Indikátor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9588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gyéb eszközö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ommunikációs eszközö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2857680" cy="2876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2"/>
          <a:stretch/>
        </p:blipFill>
        <p:spPr>
          <a:xfrm>
            <a:off x="3214800" y="3416400"/>
            <a:ext cx="57434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ngedély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72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llenőrző lis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4091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zövegdoboz 10"/>
          <p:cNvSpPr/>
          <p:nvPr/>
        </p:nvSpPr>
        <p:spPr>
          <a:xfrm>
            <a:off x="6215040" y="1643040"/>
            <a:ext cx="27860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száma és címe, hogy kötelező-e vagy sem, és hogy milyen módon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gjelölheti, hogy az adott mellékletet csatolta vagy elküld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142920" y="1666800"/>
            <a:ext cx="5929200" cy="4303800"/>
          </a:xfrm>
          <a:prstGeom prst="rect">
            <a:avLst/>
          </a:prstGeom>
          <a:ln w="0">
            <a:noFill/>
          </a:ln>
        </p:spPr>
      </p:pic>
      <p:sp>
        <p:nvSpPr>
          <p:cNvPr id="16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Melléklet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DOKUMENT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zövegdoboz 10"/>
          <p:cNvSpPr/>
          <p:nvPr/>
        </p:nvSpPr>
        <p:spPr>
          <a:xfrm>
            <a:off x="5286240" y="1571760"/>
            <a:ext cx="35719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TÖLTÉ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DOKUMENTUMOK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apír alapon csak - az eredeti aláírásokkal ellátott – melléklet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űrlapot szintén nem szükséges kinyomtatni. Az elektronikus formában elérhető mellékletek és egyéb támogató dokumentumok szintén feltölthetőek az elektronikus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modul elérhető a honlapunkon a pályázati kiírás oldalán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BENYÚJTÁ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z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TZÉS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Sikeres pályázást kíváno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lop Szilvesz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manadz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zholop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h. név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ami megjegyezhet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4451400" cy="1785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2"/>
          <a:stretch/>
        </p:blipFill>
        <p:spPr>
          <a:xfrm>
            <a:off x="285840" y="4143240"/>
            <a:ext cx="44514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létrehoz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folytat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nem törlőd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hiánypótlás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1926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285920"/>
            <a:ext cx="357192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ÖRL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OVÁBB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BENYÚJTÁS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az ellenőrzött és megfelelően kitöltött pályáza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KILÉP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142920" y="127008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2857680" y="35712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285920"/>
            <a:ext cx="357192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ÁTTEKIN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ŰRLAP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ja és részletezi a tervezett projektet. A táblázat soraihoz ún.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OKUMENTUM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285920"/>
            <a:ext cx="357192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ÓDOSÍ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szerkesztését,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olopszilveszter</cp:lastModifiedBy>
  <dcterms:modified xsi:type="dcterms:W3CDTF">2011-08-30T15:05:53Z</dcterms:modified>
  <cp:revision>52</cp:revision>
  <dc:subject/>
  <dc:title>1. dia</dc:title>
</cp:coreProperties>
</file>