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9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39FC5-1294-48D3-8761-48567E947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7A517-8E97-4F4F-9839-18EA2B6C5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A8809-FAD5-4B51-A0D8-C71F47338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31335-1612-4593-A5D1-8B4326603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7ED23-9ADE-4667-8F34-8A0E7767F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AB013-402A-4E8D-B1C4-B872ADF56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5C0EC-0D20-4819-BCF7-AE999D9CB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D450E-AA83-45D4-B9E6-A1DC4030C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0FF7A-9112-46D7-A018-366838E39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957480" y="274320"/>
            <a:ext cx="5400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C7E32-EC4E-49E7-9C3A-DC04AB73E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93254-11BB-4CE3-9593-84CECE437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04064-E598-4557-8AD2-8C29EA1D0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3D891-9E1B-4906-AA37-94AA042AE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F6184-B075-4CA7-9764-68BAA9113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40F31-3202-42DE-A60F-2CC072660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24DCB-B75E-4DF7-A508-B49435C72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164F4-EACE-4FCB-B34B-8EF2C41E6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7A2EF-7AB8-4312-8C5A-659BE152A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557D1-AA02-4061-8D45-AADED7764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99608-FB11-4C8A-BCBD-8EE4E998C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957480" y="274320"/>
            <a:ext cx="5400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7678A-B904-4CE9-9493-C7372377F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1060F-1928-49F4-A962-3F4206CD9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D974B-67E9-4905-A7C0-8C8E8EB3E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42B5D-B673-4DE7-8DCA-3312D6EB5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44988-0C72-438E-9410-9C160DA1C558}" type="slidenum">
              <a:rPr b="0" lang="hu-H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C3CA9-1A41-485A-B1B7-480EE720D34D}" type="slidenum">
              <a:rPr b="0" lang="hu-H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000000"/>
                </a:solidFill>
                <a:latin typeface="Calibri"/>
              </a:rPr>
              <a:t>IMIR 2007-2013</a:t>
            </a:r>
            <a:br>
              <a:rPr sz="3600"/>
            </a:br>
            <a:r>
              <a:rPr b="1" lang="hu-HU" sz="3600" spc="-1" strike="noStrike">
                <a:solidFill>
                  <a:srgbClr val="000000"/>
                </a:solidFill>
                <a:latin typeface="Calibri"/>
              </a:rPr>
              <a:t>Monitoring és Információs Rendszer</a:t>
            </a:r>
            <a:r>
              <a:rPr b="0" lang="hu-HU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898989"/>
                </a:solidFill>
                <a:latin typeface="Calibri"/>
              </a:rPr>
              <a:t>A 4. pályázati kiírás online pályázati moduljának bemutatás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zövegdoboz 5"/>
          <p:cNvSpPr/>
          <p:nvPr/>
        </p:nvSpPr>
        <p:spPr>
          <a:xfrm>
            <a:off x="71280" y="118116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ŰRLAPOK\Főadat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zövegdoboz 7"/>
          <p:cNvSpPr/>
          <p:nvPr/>
        </p:nvSpPr>
        <p:spPr>
          <a:xfrm>
            <a:off x="5429160" y="1714680"/>
            <a:ext cx="3571920" cy="36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FŐADAT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ROJEKT CÍ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kifejező, nem túl hossz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RÖVID CÍ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ax 25 karak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RIORITÁ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kitöltéséhez szükséges a pályázati útmutató ismere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ROJECT DU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projekt időtartama &gt;/=24 hóna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5" descr=""/>
          <p:cNvPicPr/>
          <p:nvPr/>
        </p:nvPicPr>
        <p:blipFill>
          <a:blip r:embed="rId1"/>
          <a:stretch/>
        </p:blipFill>
        <p:spPr>
          <a:xfrm>
            <a:off x="142920" y="1785960"/>
            <a:ext cx="520524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zövegdoboz 5"/>
          <p:cNvSpPr/>
          <p:nvPr/>
        </p:nvSpPr>
        <p:spPr>
          <a:xfrm>
            <a:off x="71280" y="118116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ŰRLAPOK\Partnersé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zövegdoboz 7"/>
          <p:cNvSpPr/>
          <p:nvPr/>
        </p:nvSpPr>
        <p:spPr>
          <a:xfrm>
            <a:off x="5429160" y="1643040"/>
            <a:ext cx="3571920" cy="31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ADAT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RÉSZLETE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artner adatainak megtekinté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ODIF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artner adatainak módosítá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DELE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partner törlé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Ú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új partner hozzáadása a partner típusának megválasztásáva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5214960" cy="21682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3" descr=""/>
          <p:cNvPicPr/>
          <p:nvPr/>
        </p:nvPicPr>
        <p:blipFill>
          <a:blip r:embed="rId2"/>
          <a:stretch/>
        </p:blipFill>
        <p:spPr>
          <a:xfrm>
            <a:off x="714240" y="2786040"/>
            <a:ext cx="3381480" cy="31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Szövegdoboz 5"/>
          <p:cNvSpPr/>
          <p:nvPr/>
        </p:nvSpPr>
        <p:spPr>
          <a:xfrm>
            <a:off x="71280" y="118116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ŰRLAPOK\Partnerség\Azonosítá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zövegdoboz 7"/>
          <p:cNvSpPr/>
          <p:nvPr/>
        </p:nvSpPr>
        <p:spPr>
          <a:xfrm>
            <a:off x="6500880" y="1643040"/>
            <a:ext cx="2500200" cy="37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70c0"/>
                </a:solidFill>
                <a:latin typeface="Arial"/>
              </a:rPr>
              <a:t>PARTNER ADATA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Típus, név, cím, adószám, elérhetősé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70c0"/>
                </a:solidFill>
                <a:latin typeface="Arial"/>
              </a:rPr>
              <a:t>PROJEKTRE VONATKOZÓ PARTNERADAT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Jogi státusz (közjogi, központi, magánjogi), alkalmazottak száma, levelezési cí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mennyiben nem biztos valamely adatok tartalmában, kérjük használja a pályázati útmutatót illetve az IMIR kézikönyve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2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6213600" cy="42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zövegdoboz 5"/>
          <p:cNvSpPr/>
          <p:nvPr/>
        </p:nvSpPr>
        <p:spPr>
          <a:xfrm>
            <a:off x="71280" y="118116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ŰRLAPOK\Partnerség\Képviselő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2" descr=""/>
          <p:cNvPicPr/>
          <p:nvPr/>
        </p:nvPicPr>
        <p:blipFill>
          <a:blip r:embed="rId1"/>
          <a:stretch/>
        </p:blipFill>
        <p:spPr>
          <a:xfrm>
            <a:off x="171360" y="1714680"/>
            <a:ext cx="6213600" cy="4214520"/>
          </a:xfrm>
          <a:prstGeom prst="rect">
            <a:avLst/>
          </a:prstGeom>
          <a:ln w="0">
            <a:noFill/>
          </a:ln>
        </p:spPr>
      </p:pic>
      <p:sp>
        <p:nvSpPr>
          <p:cNvPr id="116" name="Szövegdoboz 7"/>
          <p:cNvSpPr/>
          <p:nvPr/>
        </p:nvSpPr>
        <p:spPr>
          <a:xfrm>
            <a:off x="6500880" y="1714680"/>
            <a:ext cx="2500200" cy="37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KAPCSOLATTART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év, pozíció, e-mail, elérhetősé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TÖRVÉNYES KÉPVISEL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(törvényes képviselő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év, pozíció, e-mail, elérhetősé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70c0"/>
                </a:solidFill>
                <a:latin typeface="Arial"/>
              </a:rPr>
              <a:t>ALAPÍTÓ SZERVEZ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bban az esetben kell kitölteni, ha a Partner egy másik szervezet közvetlen irányítása alatt működik. (pl. a megye által működtetett középiskola stb. esetében a megyei önkormányza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zövegdoboz 7"/>
          <p:cNvSpPr/>
          <p:nvPr/>
        </p:nvSpPr>
        <p:spPr>
          <a:xfrm>
            <a:off x="6000840" y="1000080"/>
            <a:ext cx="3000240" cy="49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LÉTSZÁM / PROJEKTMEGVALÓSÍTÁSI TAPASZTALAT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információk a partner korábbi projektirányítási tapasztalatairól (Projektcím, költségvetés, részvétel típusa stb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70c0"/>
                </a:solidFill>
                <a:latin typeface="Arial"/>
              </a:rPr>
              <a:t>UTOLSÓ LEZÁRT ÜZLETI É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partner utolsó üzleti évére vonatkozó információk (bevétel, kiadás, eredmény stb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PR. MEGVALÓSÍTÁSÁNAK HELYSZÍ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valamennyi helyszín, ahol a projektet vagy annak bizonyos részeit végrehajtják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BANKSZÁMLÁ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projekt végrehajtása szempontjából releváns bankszámlá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5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5791320" cy="3929040"/>
          </a:xfrm>
          <a:prstGeom prst="rect">
            <a:avLst/>
          </a:prstGeom>
          <a:ln w="0">
            <a:noFill/>
          </a:ln>
        </p:spPr>
      </p:pic>
      <p:sp>
        <p:nvSpPr>
          <p:cNvPr id="119" name="Szövegdoboz 6"/>
          <p:cNvSpPr/>
          <p:nvPr/>
        </p:nvSpPr>
        <p:spPr>
          <a:xfrm>
            <a:off x="71280" y="118116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ŰRLAPOK\Partnerség\Üzleti adat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zövegdoboz 5"/>
          <p:cNvSpPr/>
          <p:nvPr/>
        </p:nvSpPr>
        <p:spPr>
          <a:xfrm>
            <a:off x="71280" y="1181160"/>
            <a:ext cx="6000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Együttműködési kritériumok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zövegdoboz 7"/>
          <p:cNvSpPr/>
          <p:nvPr/>
        </p:nvSpPr>
        <p:spPr>
          <a:xfrm>
            <a:off x="6000840" y="1746360"/>
            <a:ext cx="3000240" cy="37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z együttműködés szintjei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özös projektfejleszté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özös projektvégrehajtá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rojektvégrehajtás közös finanszírozá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özös projektszemélyz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Válassza ki az egyik kritériumot úgy, hogy rákattint, majd válassza ki a baloldalon található </a:t>
            </a:r>
            <a:r>
              <a:rPr b="1" i="1" lang="hu-HU" sz="1400" spc="-1" strike="noStrike">
                <a:solidFill>
                  <a:srgbClr val="000000"/>
                </a:solidFill>
                <a:latin typeface="Arial"/>
              </a:rPr>
              <a:t>Érték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ező legördülő listájának egyik elemét, és magyarázza vagy indokolja a választást a </a:t>
            </a:r>
            <a:r>
              <a:rPr b="1" i="1" lang="hu-HU" sz="1400" spc="-1" strike="noStrike">
                <a:solidFill>
                  <a:srgbClr val="000000"/>
                </a:solidFill>
                <a:latin typeface="Arial"/>
              </a:rPr>
              <a:t>Leírás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 mezőben. Ismételje meg a folyamatot valamennyi kritérium eseté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5" descr=""/>
          <p:cNvPicPr/>
          <p:nvPr/>
        </p:nvPicPr>
        <p:blipFill>
          <a:blip r:embed="rId1"/>
          <a:stretch/>
        </p:blipFill>
        <p:spPr>
          <a:xfrm>
            <a:off x="142920" y="1781280"/>
            <a:ext cx="5724360" cy="37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zövegdoboz 5"/>
          <p:cNvSpPr/>
          <p:nvPr/>
        </p:nvSpPr>
        <p:spPr>
          <a:xfrm>
            <a:off x="2857680" y="428760"/>
            <a:ext cx="60004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Projekt leírások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zövegdoboz 7"/>
          <p:cNvSpPr/>
          <p:nvPr/>
        </p:nvSpPr>
        <p:spPr>
          <a:xfrm>
            <a:off x="6143760" y="1000080"/>
            <a:ext cx="28573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 PROJECT DESCRIP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(projektleírá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alamennyi témáról részletes, összefüggő leírásokat kell adn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Max. karakterszám: 2000 + 2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Szövegdoboz 6" descr=""/>
          <p:cNvPicPr/>
          <p:nvPr/>
        </p:nvPicPr>
        <p:blipFill>
          <a:blip r:embed="rId1"/>
          <a:stretch/>
        </p:blipFill>
        <p:spPr>
          <a:xfrm>
            <a:off x="133200" y="4492800"/>
            <a:ext cx="8913960" cy="16160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6" descr=""/>
          <p:cNvPicPr/>
          <p:nvPr/>
        </p:nvPicPr>
        <p:blipFill>
          <a:blip r:embed="rId2"/>
          <a:stretch/>
        </p:blipFill>
        <p:spPr>
          <a:xfrm>
            <a:off x="214200" y="1071720"/>
            <a:ext cx="5929560" cy="33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zövegdoboz 5"/>
          <p:cNvSpPr/>
          <p:nvPr/>
        </p:nvSpPr>
        <p:spPr>
          <a:xfrm>
            <a:off x="71280" y="1181160"/>
            <a:ext cx="6000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Célok és tevékenységek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Szövegdoboz 10"/>
          <p:cNvSpPr/>
          <p:nvPr/>
        </p:nvSpPr>
        <p:spPr>
          <a:xfrm>
            <a:off x="5500800" y="1643040"/>
            <a:ext cx="3214440" cy="37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 PROJEKT TEVÉKENYSÉGEINEK LISTÁJ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tevékenységek kapcsán az alábbi adatokat kell megadni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é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Felelős partn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Egyéb a megvalósításba bevont partn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tevékenység leírá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Kockázat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Vonatkozó periódus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Tervezett költsé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(segít annak azonosításában, hogy az adott tevékenység megfelelő arányt képvisel-e a projekten belü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6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5214960" cy="11714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7" descr=""/>
          <p:cNvPicPr/>
          <p:nvPr/>
        </p:nvPicPr>
        <p:blipFill>
          <a:blip r:embed="rId2"/>
          <a:stretch/>
        </p:blipFill>
        <p:spPr>
          <a:xfrm>
            <a:off x="285840" y="2214720"/>
            <a:ext cx="4429080" cy="37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zövegdoboz 10"/>
          <p:cNvSpPr/>
          <p:nvPr/>
        </p:nvSpPr>
        <p:spPr>
          <a:xfrm>
            <a:off x="6286680" y="1714680"/>
            <a:ext cx="2714400" cy="35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70c0"/>
                </a:solidFill>
                <a:latin typeface="Arial"/>
              </a:rPr>
              <a:t>Finanszírozási forrás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rojektszintű költségveté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 partnerszintű költségveté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artnertábláz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öltségvetési füle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Költségvetési füle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álasztott partner társfinanszírozási forrása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álasztott partner részletes költségveté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álasztott partner költségeinek ütemezé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zövegdoboz 6"/>
          <p:cNvSpPr/>
          <p:nvPr/>
        </p:nvSpPr>
        <p:spPr>
          <a:xfrm>
            <a:off x="71280" y="1181160"/>
            <a:ext cx="6000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Költségveté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5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6021360" cy="312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zövegdoboz 6"/>
          <p:cNvSpPr/>
          <p:nvPr/>
        </p:nvSpPr>
        <p:spPr>
          <a:xfrm>
            <a:off x="71280" y="1181160"/>
            <a:ext cx="65725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Választott partner részletes költségvetés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6286680" y="1553760"/>
            <a:ext cx="2643120" cy="372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8600" indent="-228600">
              <a:lnSpc>
                <a:spcPts val="2599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  <a:ea typeface="Calibri"/>
              </a:rPr>
              <a:t>Előkészítő költség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ts val="2599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  <a:ea typeface="Calibri"/>
              </a:rPr>
              <a:t>Személyi költsé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ts val="2599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  <a:ea typeface="Calibri"/>
              </a:rPr>
              <a:t>Útiköltség és alapellátmány (napidíj és szállá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ts val="2599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  <a:ea typeface="Calibri"/>
              </a:rPr>
              <a:t>Szolgáltatás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ts val="2599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  <a:ea typeface="Calibri"/>
              </a:rPr>
              <a:t>Beszerzések (Eszközö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ts val="2599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  <a:ea typeface="Calibri"/>
              </a:rPr>
              <a:t>Építési beruházá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ts val="2599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  <a:ea typeface="Calibri"/>
              </a:rPr>
              <a:t>Rezsi, működési és adminisztratív költség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4" descr=""/>
          <p:cNvPicPr/>
          <p:nvPr/>
        </p:nvPicPr>
        <p:blipFill>
          <a:blip r:embed="rId1"/>
          <a:stretch/>
        </p:blipFill>
        <p:spPr>
          <a:xfrm>
            <a:off x="142920" y="1857240"/>
            <a:ext cx="6116760" cy="31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Szövegdoboz 5"/>
          <p:cNvSpPr/>
          <p:nvPr/>
        </p:nvSpPr>
        <p:spPr>
          <a:xfrm>
            <a:off x="428760" y="1344600"/>
            <a:ext cx="7715160" cy="37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IMIR pályázati elektronikus felül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Magyar nyelvű kitöltési felül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https://www.doc.imis2007-2013.hu/elementafohu1/app/elementahusk.jn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Szlovák nyelvű kitöltési felül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https://www.doc.imis2007-2013.hu/elementafosk1/app/elementahusk.jn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A pályázatot két nyelven kell kitölteni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a megnyitott felület nyelvétől függetlenü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Kérjük tanulmányozzák az IMIR 2007-2013 Front Office Felhasználói Kézikönyvet, amely megtalálható a pályázati felhívás mellékletei közöt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zövegdoboz 6"/>
          <p:cNvSpPr/>
          <p:nvPr/>
        </p:nvSpPr>
        <p:spPr>
          <a:xfrm>
            <a:off x="71280" y="1181160"/>
            <a:ext cx="65725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Költségvetés\Utazás és alapellátmán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7" descr=""/>
          <p:cNvPicPr/>
          <p:nvPr/>
        </p:nvPicPr>
        <p:blipFill>
          <a:blip r:embed="rId1"/>
          <a:stretch/>
        </p:blipFill>
        <p:spPr>
          <a:xfrm>
            <a:off x="1071720" y="1643040"/>
            <a:ext cx="7832520" cy="32860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8" descr=""/>
          <p:cNvPicPr/>
          <p:nvPr/>
        </p:nvPicPr>
        <p:blipFill>
          <a:blip r:embed="rId2"/>
          <a:stretch/>
        </p:blipFill>
        <p:spPr>
          <a:xfrm>
            <a:off x="357120" y="3357720"/>
            <a:ext cx="6215040" cy="266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zövegdoboz 6"/>
          <p:cNvSpPr/>
          <p:nvPr/>
        </p:nvSpPr>
        <p:spPr>
          <a:xfrm>
            <a:off x="71280" y="1181160"/>
            <a:ext cx="65725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Költségvetés\Utazás és alapellátmán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zövegdoboz 10"/>
          <p:cNvSpPr/>
          <p:nvPr/>
        </p:nvSpPr>
        <p:spPr>
          <a:xfrm>
            <a:off x="6215040" y="1571760"/>
            <a:ext cx="2714760" cy="35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Szolgáltatások (4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Beszerzések (5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költségvetési sorok alatt harmadik szintű költségvetési alsorokat talál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ható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amelyeknek nincs pontos nev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bben az esetben Önnek kell eldöntenie, hogy a költségvetési alsorok közül mennyire van szüksége, és hogyan szeretné kiadásait csoportosítani a fenti számok alatt, hogy ezek a legérthetőbb logikát tükrözzé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2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6072120" cy="25480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3" descr=""/>
          <p:cNvPicPr/>
          <p:nvPr/>
        </p:nvPicPr>
        <p:blipFill>
          <a:blip r:embed="rId2"/>
          <a:stretch/>
        </p:blipFill>
        <p:spPr>
          <a:xfrm>
            <a:off x="142920" y="3357720"/>
            <a:ext cx="4819680" cy="20224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4" descr=""/>
          <p:cNvPicPr/>
          <p:nvPr/>
        </p:nvPicPr>
        <p:blipFill>
          <a:blip r:embed="rId3"/>
          <a:stretch/>
        </p:blipFill>
        <p:spPr>
          <a:xfrm>
            <a:off x="142920" y="4714920"/>
            <a:ext cx="3000240" cy="12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Szövegdoboz 10"/>
          <p:cNvSpPr/>
          <p:nvPr/>
        </p:nvSpPr>
        <p:spPr>
          <a:xfrm>
            <a:off x="6286680" y="1643040"/>
            <a:ext cx="2714400" cy="27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Választott partner társfinanszírozási forrá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 egyes mezők automatikusan számolódnak ki a partnerek jogi státuszának tükréb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mennyiben a szervezet bevételekre tesz szert a projektmegvalósítás során, úgy annak tervezett  mértékét itt kell megadn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5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6060960" cy="3143160"/>
          </a:xfrm>
          <a:prstGeom prst="rect">
            <a:avLst/>
          </a:prstGeom>
          <a:ln w="0">
            <a:noFill/>
          </a:ln>
        </p:spPr>
      </p:pic>
      <p:sp>
        <p:nvSpPr>
          <p:cNvPr id="147" name="Szövegdoboz 6"/>
          <p:cNvSpPr/>
          <p:nvPr/>
        </p:nvSpPr>
        <p:spPr>
          <a:xfrm>
            <a:off x="142920" y="1143000"/>
            <a:ext cx="65721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Költségvetés\Finanszírozási források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Szövegdoboz 10"/>
          <p:cNvSpPr/>
          <p:nvPr/>
        </p:nvSpPr>
        <p:spPr>
          <a:xfrm>
            <a:off x="6286680" y="1643040"/>
            <a:ext cx="271440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 előrejelzésre a program költségvetésének kifizetési ütemezésének megtervezéséhez van szüksé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megadott összegek tájékoztató jellegűek, azonban a tervezett ütemezéstől való jelentős eltérés esetén a program a pénzügyi kötelezettségvállalás visszavonásának tárgya lehe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zövegdoboz 4"/>
          <p:cNvSpPr/>
          <p:nvPr/>
        </p:nvSpPr>
        <p:spPr>
          <a:xfrm>
            <a:off x="71280" y="1181160"/>
            <a:ext cx="65725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Költségvetés\Ütemezé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5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6060960" cy="3143160"/>
          </a:xfrm>
          <a:prstGeom prst="rect">
            <a:avLst/>
          </a:prstGeom>
          <a:ln w="0">
            <a:noFill/>
          </a:ln>
        </p:spPr>
      </p:pic>
      <p:sp>
        <p:nvSpPr>
          <p:cNvPr id="151" name="Téglalap 6"/>
          <p:cNvSpPr/>
          <p:nvPr/>
        </p:nvSpPr>
        <p:spPr>
          <a:xfrm>
            <a:off x="142920" y="4929120"/>
            <a:ext cx="8858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70c0"/>
                </a:solidFill>
                <a:latin typeface="Arial"/>
              </a:rPr>
              <a:t>Ne feledje, hogy a programban a visszafizetés hosszú, kétszintű folyamat, vagyis 4-6 hónap is eltelhet a kifizetett számlák benyújtásától az ellenőrző testületeknek addig, míg az ERFA támogatás összege kifizetésre kerü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zövegdoboz 10"/>
          <p:cNvSpPr/>
          <p:nvPr/>
        </p:nvSpPr>
        <p:spPr>
          <a:xfrm>
            <a:off x="6286680" y="1643040"/>
            <a:ext cx="2714400" cy="34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Indikátor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program által meghatározott mutatók, és az Ön saját projekt-specifikus mutatói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A MÓDOSÍT gombra kattint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beállíthatja alapértéküket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célértéküket és kiválaszthatja megvalósításuk időszaká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Kötel.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szlop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JTS által kötelezővé tett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tat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Ha nincs bejelölés, Öntől függ, hogy szeretné-e a használni a projekt során (releváns-e a projekt szempontjából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Szövegdoboz 4"/>
          <p:cNvSpPr/>
          <p:nvPr/>
        </p:nvSpPr>
        <p:spPr>
          <a:xfrm>
            <a:off x="71280" y="1181160"/>
            <a:ext cx="65725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Indikátorok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5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6095880" cy="35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Szövegdoboz 10"/>
          <p:cNvSpPr/>
          <p:nvPr/>
        </p:nvSpPr>
        <p:spPr>
          <a:xfrm>
            <a:off x="6286680" y="142920"/>
            <a:ext cx="2714400" cy="31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Felada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on kommunikációs eszközök kiválasztása az előre meghatározott listából, amelyek használatát tervezi a projekt végrehajtása sorá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Egyéb olyan kommunikációs eszköz leírása az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Egyéb eszközök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mezőben, amelyek használatát tervezi, de amelyek nem jelennek meg az előre meghatározott listába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zövegdoboz 6"/>
          <p:cNvSpPr/>
          <p:nvPr/>
        </p:nvSpPr>
        <p:spPr>
          <a:xfrm>
            <a:off x="71280" y="1181160"/>
            <a:ext cx="65725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Kommunikációs eszközök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6" descr=""/>
          <p:cNvPicPr/>
          <p:nvPr/>
        </p:nvPicPr>
        <p:blipFill>
          <a:blip r:embed="rId1"/>
          <a:stretch/>
        </p:blipFill>
        <p:spPr>
          <a:xfrm>
            <a:off x="214200" y="1643040"/>
            <a:ext cx="2857680" cy="28764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7" descr=""/>
          <p:cNvPicPr/>
          <p:nvPr/>
        </p:nvPicPr>
        <p:blipFill>
          <a:blip r:embed="rId2"/>
          <a:stretch/>
        </p:blipFill>
        <p:spPr>
          <a:xfrm>
            <a:off x="3214800" y="3416400"/>
            <a:ext cx="574344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Szövegdoboz 10"/>
          <p:cNvSpPr/>
          <p:nvPr/>
        </p:nvSpPr>
        <p:spPr>
          <a:xfrm>
            <a:off x="6215040" y="1643040"/>
            <a:ext cx="271476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projekt megvalósításához szükséges engedélyek listáj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 engedély adatai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típus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leírás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engedély kiadásának időpontja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engedély érvényességének vége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zonosító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zövegdoboz 4"/>
          <p:cNvSpPr/>
          <p:nvPr/>
        </p:nvSpPr>
        <p:spPr>
          <a:xfrm>
            <a:off x="71280" y="1181160"/>
            <a:ext cx="65725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Engedélyek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5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597204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Szövegdoboz 10"/>
          <p:cNvSpPr/>
          <p:nvPr/>
        </p:nvSpPr>
        <p:spPr>
          <a:xfrm>
            <a:off x="4286160" y="1643040"/>
            <a:ext cx="421488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Táblázatos formában elkészített ellenőrzőlis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kérdések automatikusan kitöltésre kerülnek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pályázónak Igen/Nem választ kell adnia a jelölőnégyzetre kattintv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érjük, menjen végig a lista valamennyi elemén, különben a rendszer hibát jelez az Ellenőrzési riportba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zövegdoboz 6"/>
          <p:cNvSpPr/>
          <p:nvPr/>
        </p:nvSpPr>
        <p:spPr>
          <a:xfrm>
            <a:off x="71280" y="1181160"/>
            <a:ext cx="65725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Ellenőrző list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5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4091040" cy="38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Szövegdoboz 10"/>
          <p:cNvSpPr/>
          <p:nvPr/>
        </p:nvSpPr>
        <p:spPr>
          <a:xfrm>
            <a:off x="6215040" y="1643040"/>
            <a:ext cx="278604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oknak a mellékleteknek a listája, amelyeket a pályázattal együtt kell benyújtani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Itt látható a melléklet száma és címe, hogy kötelező-e vagy sem, és hogy milyen módon kell beküldeni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Megjelölheti, hogy az adott mellékletet csatolta vagy elküld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5" descr=""/>
          <p:cNvPicPr/>
          <p:nvPr/>
        </p:nvPicPr>
        <p:blipFill>
          <a:blip r:embed="rId1"/>
          <a:stretch/>
        </p:blipFill>
        <p:spPr>
          <a:xfrm>
            <a:off x="142920" y="1666800"/>
            <a:ext cx="5929200" cy="4303800"/>
          </a:xfrm>
          <a:prstGeom prst="rect">
            <a:avLst/>
          </a:prstGeom>
          <a:ln w="0">
            <a:noFill/>
          </a:ln>
        </p:spPr>
      </p:pic>
      <p:sp>
        <p:nvSpPr>
          <p:cNvPr id="167" name="Szövegdoboz 6"/>
          <p:cNvSpPr/>
          <p:nvPr/>
        </p:nvSpPr>
        <p:spPr>
          <a:xfrm>
            <a:off x="71280" y="1181160"/>
            <a:ext cx="65725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Mellékletek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Szövegdoboz 5"/>
          <p:cNvSpPr/>
          <p:nvPr/>
        </p:nvSpPr>
        <p:spPr>
          <a:xfrm>
            <a:off x="71280" y="1181160"/>
            <a:ext cx="61437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DOKUMENTUMOK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zövegdoboz 10"/>
          <p:cNvSpPr/>
          <p:nvPr/>
        </p:nvSpPr>
        <p:spPr>
          <a:xfrm>
            <a:off x="5286240" y="1571760"/>
            <a:ext cx="357192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FELTÖLTÉS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gomb segítségével csatolhatja a pályázathoz a szükséges támogató dokumentumoka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LÉTREHOZ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gomb használatával a rendszer 4 dokumentumot állít elő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Pályázati lap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Partnerségi nyilatkoza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VP nyilatkozat HU/S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Valamennyi dokumentum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.pdf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 formátumban érhető el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A generált dokumentumokat a rendszer automatikusan lementi és megjeleníti a táblázatban. Ezeket ki is nyomtathatj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A létrehozott dokumentumok az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DOKUMENTUMOK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 fülben bármikor lekérhetőe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5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4786200" cy="434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zövegdoboz 5"/>
          <p:cNvSpPr/>
          <p:nvPr/>
        </p:nvSpPr>
        <p:spPr>
          <a:xfrm>
            <a:off x="428760" y="1344600"/>
            <a:ext cx="7715160" cy="35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IMIR pályázati elektronikus felül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Papír alapon csak - az eredeti aláírásokkal ellátott – mellékleteket kell benyújtani (pl. Vezető Partner nyilatkozata, Partnerségi nyilatkozat, fenntartható fejlődést biztosító intézkedések, stb.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pályázati űrlapot szintén nem szükséges kinyomtatni. Az elektronikus formában elérhető mellékletek és egyéb támogató dokumentumok szintén feltölthetőek az elektronikus felületen keresztü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pályázati modul elérhető a honlapunkon a pályázati kiírás oldalán: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www.husk-cbc.e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Szövegdoboz 5"/>
          <p:cNvSpPr/>
          <p:nvPr/>
        </p:nvSpPr>
        <p:spPr>
          <a:xfrm>
            <a:off x="1500120" y="1214280"/>
            <a:ext cx="61437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A pályázat benyújtásának folyamat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églalap 6"/>
          <p:cNvSpPr/>
          <p:nvPr/>
        </p:nvSpPr>
        <p:spPr>
          <a:xfrm>
            <a:off x="214200" y="1619280"/>
            <a:ext cx="871560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Regisztráció és bejelnetkezé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A szükséges adatok felvite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A pályázat ellenőrzése (</a:t>
            </a:r>
            <a:r>
              <a:rPr b="0" i="1" lang="sk-SK" sz="1600" spc="-1" strike="noStrike">
                <a:solidFill>
                  <a:srgbClr val="000000"/>
                </a:solidFill>
                <a:latin typeface="Arial"/>
              </a:rPr>
              <a:t>ELLENŐRZÉS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+ A hiányzó adatok feltöltése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A pályázat végső ellenőrzése (</a:t>
            </a:r>
            <a:r>
              <a:rPr b="0" i="1" lang="sk-SK" sz="1600" spc="-1" strike="noStrike">
                <a:solidFill>
                  <a:srgbClr val="000000"/>
                </a:solidFill>
                <a:latin typeface="Arial"/>
              </a:rPr>
              <a:t>ELLENŐRZÉS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) – eredmény: Sikeres ellenőrzé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Dokumentumok feltöltése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- A pályázathoz szükséges dokumentumok elektornikus  változatának feltölté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A pályázat végleges dokumentumainak létrehozása (</a:t>
            </a:r>
            <a:r>
              <a:rPr b="0" i="1" lang="sk-SK" sz="1600" spc="-1" strike="noStrike">
                <a:solidFill>
                  <a:srgbClr val="000000"/>
                </a:solidFill>
                <a:latin typeface="Arial"/>
              </a:rPr>
              <a:t>LÉTREHOZ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)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A pályázat elektronikus benyújtása a JTS felé (</a:t>
            </a:r>
            <a:r>
              <a:rPr b="0" i="1" lang="sk-SK" sz="1600" spc="-1" strike="noStrike">
                <a:solidFill>
                  <a:srgbClr val="000000"/>
                </a:solidFill>
                <a:latin typeface="Arial"/>
              </a:rPr>
              <a:t>BENYÚJTÁS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sk-SK" sz="1600" spc="-1" strike="noStrike" u="sng">
                <a:solidFill>
                  <a:srgbClr val="000000"/>
                </a:solidFill>
                <a:uFillTx/>
                <a:latin typeface="Arial"/>
              </a:rPr>
              <a:t>Időszakos ellenőrzések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– az </a:t>
            </a:r>
            <a:r>
              <a:rPr b="0" i="1" lang="sk-SK" sz="1600" spc="-1" strike="noStrike">
                <a:solidFill>
                  <a:srgbClr val="000000"/>
                </a:solidFill>
                <a:latin typeface="Arial"/>
              </a:rPr>
              <a:t>ELLENŐTZÉS 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gomb segítségével bármikor ellenőrizheti a pályázat hiányzó adata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sk-SK" sz="1600" spc="-1" strike="noStrike" u="sng">
                <a:solidFill>
                  <a:srgbClr val="000000"/>
                </a:solidFill>
                <a:uFillTx/>
                <a:latin typeface="Arial"/>
              </a:rPr>
              <a:t>Dokumentumok megtekintése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– A pályázat adatainak feltöltése során bármikor a </a:t>
            </a:r>
            <a:r>
              <a:rPr b="0" i="1" lang="sk-SK" sz="1600" spc="-1" strike="noStrike">
                <a:solidFill>
                  <a:srgbClr val="000000"/>
                </a:solidFill>
                <a:latin typeface="Arial"/>
              </a:rPr>
              <a:t>LÉTREHOZ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 gombra kattintva létrehozhatja és megtekintheti a pályázati formanyomtatványt .pdf formátumba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Szövegdoboz 5"/>
          <p:cNvSpPr/>
          <p:nvPr/>
        </p:nvSpPr>
        <p:spPr>
          <a:xfrm>
            <a:off x="1571760" y="2071800"/>
            <a:ext cx="61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Calibri"/>
              </a:rPr>
              <a:t>Sikeres pályázást kívánok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églalap 6"/>
          <p:cNvSpPr/>
          <p:nvPr/>
        </p:nvSpPr>
        <p:spPr>
          <a:xfrm>
            <a:off x="285840" y="3286080"/>
            <a:ext cx="871524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HU-SK JOINT TECHNICAL SECRETARI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Holop Szilvesz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Programmanadzs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szholop@vati.h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www.husk-cbc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Szövegdoboz 5"/>
          <p:cNvSpPr/>
          <p:nvPr/>
        </p:nvSpPr>
        <p:spPr>
          <a:xfrm>
            <a:off x="428760" y="1281240"/>
            <a:ext cx="7715160" cy="46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Rendszerkövetelmény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Internet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kapcsol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Operációs rendszer: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Microsoft Windows XP/Vista/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Egyéb szoftvere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Microsoft Office/Open Off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Adobe Reader/Pdf r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Java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legújabb verzió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(Innen letölthető: </a:t>
            </a:r>
            <a:r>
              <a:rPr b="0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http://www.java.com/en/download/index.jsp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Internetböngésző: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 Internet Explorer 6.0 vagy újabb verzió/ Mozilla Firefox 3.0 vagy újabb verzi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Szövegdoboz 5"/>
          <p:cNvSpPr/>
          <p:nvPr/>
        </p:nvSpPr>
        <p:spPr>
          <a:xfrm>
            <a:off x="214200" y="1214280"/>
            <a:ext cx="771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Bejelentkez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Szövegdoboz 3"/>
          <p:cNvSpPr/>
          <p:nvPr/>
        </p:nvSpPr>
        <p:spPr>
          <a:xfrm>
            <a:off x="214200" y="3681360"/>
            <a:ext cx="771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Regisztráci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zövegdoboz 7"/>
          <p:cNvSpPr/>
          <p:nvPr/>
        </p:nvSpPr>
        <p:spPr>
          <a:xfrm>
            <a:off x="4929120" y="1793880"/>
            <a:ext cx="3929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Felh. név: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bármi, ami megjegyezhet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(pl. a szervezet nev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A rendszer 5-10 perc múlva elküldi a jelszót, amely 1 óráig érvény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Bejelentkezés után meg kell változtatnia jelszavá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Olyan új jelszót kell választania, amely legalább 8 karakter hosszú, </a:t>
            </a: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kis- és nagybetűket, valamint számokat is tartalmaz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Elfelejtett jelszó esetén a rendszer által generált új jelszó max. 1 órán át érvényes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11" descr=""/>
          <p:cNvPicPr/>
          <p:nvPr/>
        </p:nvPicPr>
        <p:blipFill>
          <a:blip r:embed="rId1"/>
          <a:stretch/>
        </p:blipFill>
        <p:spPr>
          <a:xfrm>
            <a:off x="285840" y="1714680"/>
            <a:ext cx="4451400" cy="17856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2" descr=""/>
          <p:cNvPicPr/>
          <p:nvPr/>
        </p:nvPicPr>
        <p:blipFill>
          <a:blip r:embed="rId2"/>
          <a:stretch/>
        </p:blipFill>
        <p:spPr>
          <a:xfrm>
            <a:off x="285840" y="4143240"/>
            <a:ext cx="445140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zövegdoboz 5"/>
          <p:cNvSpPr/>
          <p:nvPr/>
        </p:nvSpPr>
        <p:spPr>
          <a:xfrm>
            <a:off x="71280" y="1181160"/>
            <a:ext cx="771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Üdvözlő felül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Szövegdoboz 7"/>
          <p:cNvSpPr/>
          <p:nvPr/>
        </p:nvSpPr>
        <p:spPr>
          <a:xfrm>
            <a:off x="5572080" y="1071720"/>
            <a:ext cx="3214800" cy="48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Pályázat létrehozás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új pályázat összeállítá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indig ellenőrizze a View Applications menüpont alatt, hogy van-e már megkezdett pályázat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Pályázat folytatás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folytathatja a pályázatához szükséges adatok bevitelé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pályázat kitöltése bármikor megszakítható – a rögzített adatok nem törlődne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ennyiben már benyújtotta pályázatát, a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z má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öbbé nem módosíthat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Pályázat hiánypótlása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módosíthatja azokat a pályázatokat, amelyeket a JTS kiegészítés vagy módosítás céljából visszaküldött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5" descr=""/>
          <p:cNvPicPr/>
          <p:nvPr/>
        </p:nvPicPr>
        <p:blipFill>
          <a:blip r:embed="rId1"/>
          <a:stretch/>
        </p:blipFill>
        <p:spPr>
          <a:xfrm>
            <a:off x="142920" y="1785960"/>
            <a:ext cx="5192640" cy="40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zövegdoboz 5"/>
          <p:cNvSpPr/>
          <p:nvPr/>
        </p:nvSpPr>
        <p:spPr>
          <a:xfrm>
            <a:off x="3000240" y="42876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A pályázat adatainak feltölté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zövegdoboz 7"/>
          <p:cNvSpPr/>
          <p:nvPr/>
        </p:nvSpPr>
        <p:spPr>
          <a:xfrm>
            <a:off x="5429160" y="1285920"/>
            <a:ext cx="3571920" cy="45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Fejléc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lapbeállítás szerint üres, inaktí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Később, automatikusan töltődik k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Gombok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400" spc="-1" strike="noStrike">
                <a:solidFill>
                  <a:srgbClr val="000000"/>
                </a:solidFill>
                <a:latin typeface="Arial"/>
              </a:rPr>
              <a:t>TÖRLÉS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 - az egész pályázatot törli, és teljes adatvesztéshez vez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400" spc="-1" strike="noStrike">
                <a:solidFill>
                  <a:srgbClr val="000000"/>
                </a:solidFill>
                <a:latin typeface="Arial"/>
              </a:rPr>
              <a:t>ELLENŐRZÉS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 - a rendszer előre meghatározott, beépített algoritmusok és szabályok alapján ellenőrzi a pályázat tartalmá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400" spc="-1" strike="noStrike">
                <a:solidFill>
                  <a:srgbClr val="000000"/>
                </a:solidFill>
                <a:latin typeface="Arial"/>
              </a:rPr>
              <a:t>TOVÁBB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– sikeres ellenőrzés után a benyújtás folytatá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400" spc="-1" strike="noStrike">
                <a:solidFill>
                  <a:srgbClr val="000000"/>
                </a:solidFill>
                <a:latin typeface="Arial"/>
              </a:rPr>
              <a:t>BENYÚJTÁS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– az ellenőrzött és megfelelően kitöltött pályázat benyújtá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400" spc="-1" strike="noStrike">
                <a:solidFill>
                  <a:srgbClr val="000000"/>
                </a:solidFill>
                <a:latin typeface="Arial"/>
              </a:rPr>
              <a:t>KILÉPÉS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 – a képernyő elhagyása (valamennyi adat automatikusan mentésre kerü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5" descr=""/>
          <p:cNvPicPr/>
          <p:nvPr/>
        </p:nvPicPr>
        <p:blipFill>
          <a:blip r:embed="rId1"/>
          <a:stretch/>
        </p:blipFill>
        <p:spPr>
          <a:xfrm>
            <a:off x="142920" y="1270080"/>
            <a:ext cx="521496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zövegdoboz 5"/>
          <p:cNvSpPr/>
          <p:nvPr/>
        </p:nvSpPr>
        <p:spPr>
          <a:xfrm>
            <a:off x="2857680" y="357120"/>
            <a:ext cx="52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A pályázat adatainak feltölté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zövegdoboz 7"/>
          <p:cNvSpPr/>
          <p:nvPr/>
        </p:nvSpPr>
        <p:spPr>
          <a:xfrm>
            <a:off x="5429160" y="1285920"/>
            <a:ext cx="3571920" cy="438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FÜLE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400" spc="-1" strike="noStrike">
                <a:solidFill>
                  <a:srgbClr val="000000"/>
                </a:solidFill>
                <a:latin typeface="Arial"/>
              </a:rPr>
              <a:t>ÁTTEKINTÉ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egjeleníti a pályázat legfontosabb általános és pénzügyi adatait. Valamennyi mező inaktív, adatbevitelre itt nincs lehetősé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400" spc="-1" strike="noStrike">
                <a:solidFill>
                  <a:srgbClr val="000000"/>
                </a:solidFill>
                <a:latin typeface="Arial"/>
              </a:rPr>
              <a:t>ŰRLAP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Leírja és részletezi a tervezett projektet. A táblázat soraihoz ún. alképernyők tartoznak, amelyek a projekt különböző részeire vonatkozna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400" spc="-1" strike="noStrike">
                <a:solidFill>
                  <a:srgbClr val="000000"/>
                </a:solidFill>
                <a:latin typeface="Arial"/>
              </a:rPr>
              <a:t>DOKUMENTUM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Dokumentumok feltöltésére és létrehozására szolgá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5" descr=""/>
          <p:cNvPicPr/>
          <p:nvPr/>
        </p:nvPicPr>
        <p:blipFill>
          <a:blip r:embed="rId1"/>
          <a:stretch/>
        </p:blipFill>
        <p:spPr>
          <a:xfrm>
            <a:off x="142920" y="1285920"/>
            <a:ext cx="521496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Szövegdoboz 5"/>
          <p:cNvSpPr/>
          <p:nvPr/>
        </p:nvSpPr>
        <p:spPr>
          <a:xfrm>
            <a:off x="3000240" y="42876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Űrlap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zövegdoboz 7"/>
          <p:cNvSpPr/>
          <p:nvPr/>
        </p:nvSpPr>
        <p:spPr>
          <a:xfrm>
            <a:off x="5429160" y="1285920"/>
            <a:ext cx="3571920" cy="18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FÜLE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RÉSZLETE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z adatok áttekintését teszi lehetővé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ÓDOSÍ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z adatok szerkesztését, módosítását teszi lehetővé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" descr=""/>
          <p:cNvPicPr/>
          <p:nvPr/>
        </p:nvPicPr>
        <p:blipFill>
          <a:blip r:embed="rId1"/>
          <a:stretch/>
        </p:blipFill>
        <p:spPr>
          <a:xfrm>
            <a:off x="142920" y="1285920"/>
            <a:ext cx="521496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5T13:22:11Z</dcterms:created>
  <dc:creator>holopszilveszter</dc:creator>
  <dc:description/>
  <dc:language>en-US</dc:language>
  <cp:lastModifiedBy>holopszilveszter</cp:lastModifiedBy>
  <dcterms:modified xsi:type="dcterms:W3CDTF">2011-08-30T15:05:53Z</dcterms:modified>
  <cp:revision>52</cp:revision>
  <dc:subject/>
  <dc:title>1. dia</dc:title>
</cp:coreProperties>
</file>