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09E9-9E4C-4FE5-904F-2A6D4D694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8E55-C3B1-4991-911F-133E8704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F2AA-93B9-4D59-9741-FD0EBF83E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0724-2AEA-42FC-A906-07E1620F3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FF5E-09AD-4EE9-9954-2CC1990B4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3243-FC4F-444F-B9F2-DCFC1C2A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8368-D30F-498E-B597-A872B79C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B751-BEF3-483B-BF37-5CE7E9E6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928E-1406-483C-896A-FE4AF2EC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1D39-0397-436E-9864-784BCE5C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94B6-2A5B-4EDE-9B8A-9B92E2EC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7663-40FC-42C1-8A45-16E53244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7A8D-3B52-4311-8DCA-6AEE9782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7C8B-20CF-4F80-935C-5E733202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E5E3-A1D0-452B-9936-3B567960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9488-E767-4CAD-996C-8C863CE31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F24A-926B-42C6-9B55-2B5A4867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A6CC-B766-4ED1-BBDE-2708A853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ADE5-0922-4414-B714-52336A19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B39F-B759-4DDD-9E31-615C21D7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326A-5AD7-470E-B073-39D86B90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04CF-97C6-4D1D-9483-A6F4E537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2464-4DD0-4BAD-896A-C53EB1FD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6D95-DC5B-4A7A-B1C9-914BDF73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6729-48F7-47D4-A60B-5EB4E4F3C4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C66E-A84F-44F4-8886-4E06ADF174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abiriki@husk-cbc.eu" TargetMode="External"/><Relationship Id="rId3" Type="http://schemas.openxmlformats.org/officeDocument/2006/relationships/hyperlink" Target="mailto:abiriki@husk-cbc.eu" TargetMode="External"/><Relationship Id="rId4" Type="http://schemas.openxmlformats.org/officeDocument/2006/relationships/hyperlink" Target="mailto:abiriki@husk-cbc.eu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HUSK 4. pályázati felhívás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Információs nap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333333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Eger, 2011.08.3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an jogosult. A szerződéskötésig felmerült költség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7.3-7.5 (rezsi) sorok összege nem haladhatja meg az adott partner személyi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20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eadandók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1 eredeti+1 másol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Calibri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 beküldendő dokumentumok a következők: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cc0000"/>
                </a:solidFill>
                <a:latin typeface="Calibri"/>
              </a:rPr>
              <a:t>Vezető Partner nyilatkoza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(a nyomtatvány elérhető magyar VP-nek magyarul, szlovák VP-nek szlovákul) - nyomtatva, törvényes képviselő által aláírva és lepecsételve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cc0000"/>
                </a:solidFill>
                <a:latin typeface="Calibri"/>
              </a:rPr>
              <a:t>Partnerségi nyilatkozat</a:t>
            </a:r>
            <a:r>
              <a:rPr b="0" lang="sk-SK" sz="1700" spc="-1" strike="noStrike">
                <a:solidFill>
                  <a:srgbClr val="000000"/>
                </a:solidFill>
                <a:latin typeface="Calibri"/>
              </a:rPr>
              <a:t> (az összes támogatásban részesülő partner törvényes képviselője által aláírva) - 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nyomtatva, törvényes képviselő által aláírva és lepecsételve - 1 db dokumentu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Calibri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Calibri"/>
              </a:rPr>
              <a:t>1. melléklet - 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Amennyiben a partnerek az együttműködési kritériumok közül a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„Közös fejlesztés”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2. melléklet - A projekt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fenntarthatóságá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3. melléklet - Az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esélyegyenlősége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Értékelés mene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11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27240" y="3141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A pályázati felhívással kapcsolatos minden információ és dokumentum megtalálható a honlapunko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www.husk-cbc.eu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elhív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útmutat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és melléklete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kitöltési útmutat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Útmutató a költségek elszámolhatóságáho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Értékelő tábláza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Megvalósíthatósági tanulmány szerkeze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rojektvégrehajtási kézikönyv (PI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abiriki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@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 HUSK 1101 pályázati felhívá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MIR 2007-2013 pályázati modu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Kérdések és válaszok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RIORITÁSI TENGEL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1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Üzleti infrastruktúra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jlesztése  - 7 545 672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2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TF és innováció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nfrastruktúra közös fejlesztése és határon átnyúló kutatási együttműködés - 5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3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Turisztika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termékek és vonzerők fejlesztése, desztináció-menedzsment szervezetek és kapcsolódó infrastruktúra felállítása - 7 477 401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4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Egészségügy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kockázatkezelési kapacitások közös fejlesztése és összehangolt használata - 1 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5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hálózat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partnerségi, program- és projekttervezési és -irányítási kapacitások fejlesztése - 1 5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1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épzés, oktat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hálózatépítés - 1 234 425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2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Munkaerő-piaci kezdeményezések - 2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7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Emberek közötti (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eople to peopl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 kapcsolatépítés - 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 PRIORITÁSI TENGELY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1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Víz-, és hulladékgazdálkodás, megújuló energia - 10 813 699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2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Közös természetvédelmi tevékenységek - 3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1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isléptékű útépítés, kerékpárutak  - 4 728 517 EU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tömegközlekedés fejlesztése  - 1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4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anulmányok és tervek  (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Jobb határátkelési lehetőségek biztosítása a határfolyókon)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- 2 955 868 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zletesebben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ályázati útmutató 1.3 fejeztéb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vashatnak az elérhető intézkedésekrő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További elváráso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rojekt elképzel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Finanszírozás</a:t>
            </a:r>
            <a:r>
              <a:rPr b="0" lang="sk-SK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artnerség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</a:t>
            </a: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delegálás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Reális költségvet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Indikátoro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rtner és projekt szinten– kimenet (rövidtávú) és eredmény (rövidtávú) mutató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Archiválá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birikiarianna</cp:lastModifiedBy>
  <dcterms:modified xsi:type="dcterms:W3CDTF">2011-08-30T12:32:43Z</dcterms:modified>
  <cp:revision>100</cp:revision>
  <dc:subject/>
  <dc:title>Luh o</dc:title>
</cp:coreProperties>
</file>