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1314113" cy="8002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51280" y="-36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748800" y="771480"/>
            <a:ext cx="5303880" cy="375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06480" y="4743000"/>
            <a:ext cx="49845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37368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51280" y="937368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0458A-5F8A-4040-A936-D1836684F1D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51280" y="9374040"/>
            <a:ext cx="294624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0B654-8013-457A-B4B2-FE64DE3C8BD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768240" y="744480"/>
            <a:ext cx="5264280" cy="37227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8960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34112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808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08960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34112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49240" y="711360"/>
            <a:ext cx="96170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379520" indent="-27612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932120" indent="-2764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husk-cbc.eu/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7.jpe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8" descr="prezifedlap3"/>
          <p:cNvPicPr/>
          <p:nvPr/>
        </p:nvPicPr>
        <p:blipFill>
          <a:blip r:embed="rId2"/>
          <a:stretch/>
        </p:blipFill>
        <p:spPr>
          <a:xfrm>
            <a:off x="31680" y="1440"/>
            <a:ext cx="11284200" cy="79981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839600"/>
            <a:ext cx="11315880" cy="20876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Projekt Partneri Jelentés</a:t>
            </a:r>
            <a:br>
              <a:rPr sz="4400"/>
            </a:br>
            <a:r>
              <a:rPr b="1" lang="hu-HU" sz="3600" spc="-1" strike="noStrike">
                <a:solidFill>
                  <a:srgbClr val="006666"/>
                </a:solidFill>
                <a:latin typeface="Arial"/>
              </a:rPr>
              <a:t>készítése és benyújtása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-360" y="4361040"/>
            <a:ext cx="11315880" cy="9792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000" spc="-1" strike="noStrike">
                <a:solidFill>
                  <a:srgbClr val="006666"/>
                </a:solidFill>
                <a:latin typeface="Calibri"/>
              </a:rPr>
              <a:t>VÁTI Nonprofit Kf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000" spc="-1" strike="noStrike">
                <a:solidFill>
                  <a:srgbClr val="006666"/>
                </a:solidFill>
                <a:latin typeface="Calibri"/>
              </a:rPr>
              <a:t>Partneri szemináriu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000" spc="-1" strike="noStrike">
                <a:solidFill>
                  <a:srgbClr val="006666"/>
                </a:solidFill>
                <a:latin typeface="Calibri"/>
              </a:rPr>
              <a:t>2012. október 18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husk_logo_hu"/>
          <p:cNvPicPr/>
          <p:nvPr/>
        </p:nvPicPr>
        <p:blipFill>
          <a:blip r:embed="rId3"/>
          <a:stretch/>
        </p:blipFill>
        <p:spPr>
          <a:xfrm>
            <a:off x="7026120" y="184320"/>
            <a:ext cx="4067280" cy="1104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husk_eu_logo_hu_gorbe"/>
          <p:cNvPicPr/>
          <p:nvPr/>
        </p:nvPicPr>
        <p:blipFill>
          <a:blip r:embed="rId4"/>
          <a:stretch/>
        </p:blipFill>
        <p:spPr>
          <a:xfrm>
            <a:off x="257040" y="6377040"/>
            <a:ext cx="305460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Piaci ár igazolás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8680" y="1552320"/>
            <a:ext cx="108741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0000"/>
          </a:bodyPr>
          <a:p>
            <a:pPr marL="548280" indent="-548280">
              <a:lnSpc>
                <a:spcPct val="100000"/>
              </a:lnSpc>
              <a:spcBef>
                <a:spcPts val="675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Szokásos piaci ár igazolása: 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közbeszerzés (Kbt-nek megfelelő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3 összehasonlítható árajánl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675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Bruttó 1000 Euro feletti beszerzések esetében: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”Nyilatkozat a piaci ár igazolására” című dokumen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Árajánlatkér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3 árajánl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02920" indent="-4114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»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3 ajánlatnak rendelkezésre kell áll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02920" indent="-4114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»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összehasonlíthatóak kell legyen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02920" indent="-4114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»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egymástól és partnertől független ajánlattevőktől kell származni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02920" indent="-4114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»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az ajánlatok a megrendelés időpontjához képest nem lehetnek 3 hónapnál régebbiek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Bírálati összefoglaló készítése összességében legkedvezőbb ajánlat  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lfogadása esetében (tartalmi elvárás útmutatób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3400" y="39960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Hiánypótlá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3000"/>
          </a:bodyPr>
          <a:p>
            <a:pPr marL="566640" indent="-5666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maximum 2 alkalom / partneri jelenté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lső alkalom: a hiánypótló levél 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kiküldésének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 napjától számított 8 naptári napon belül</a:t>
            </a:r>
            <a:r>
              <a:rPr b="1" lang="hu-HU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szükséges a partnernek benyújtania a hiányzó dokumentumok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második alkalom: legfeljebb 7 naptári nap, de a két esetben max. 15 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naptári na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VÁTI Nonprofit Kft. rövidebb hiánypótlási határidőt is szabhat, amennyiben a Hitelesítési Nyilatkozat kiadásának határideje ezt szükségessé tesz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sikertelen hiánypótlás következménye:</a:t>
            </a:r>
            <a:br>
              <a:rPr sz="2400"/>
            </a:b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PPR elutasítása</a:t>
            </a:r>
            <a:br>
              <a:rPr sz="2400"/>
            </a:b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elfogadás a nem megfelelő tételek levonása után (a nem elfogadott költségek kizárólag a következő PPR-ben számolhatók el, későbbiben ne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A Partneri jelentés elfogadás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3400" y="1984320"/>
            <a:ext cx="9617040" cy="43927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az első szintű ellenőrzés (FLC) megállapítja az elszámolható költségek összegét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kiállítja a 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Hitelesítési nyilatkozatot (Declaration on validation of expenditure)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visszaküldi a bélyegzővel hitelesített eredeti számlákat és partner által visszakért eredeti dokumentumokat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A partner feladata: </a:t>
            </a:r>
            <a:r>
              <a:rPr b="1" lang="hu-HU" sz="2500" spc="-1" strike="noStrike">
                <a:solidFill>
                  <a:srgbClr val="ff0000"/>
                </a:solidFill>
                <a:latin typeface="Calibri"/>
              </a:rPr>
              <a:t>eljuttatni a Hitelesítési nyilatkozatot a vezető partnernek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!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9240" y="1263600"/>
            <a:ext cx="9617040" cy="14414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br>
              <a:rPr sz="3900"/>
            </a:br>
            <a:br>
              <a:rPr sz="4500"/>
            </a:br>
            <a:r>
              <a:rPr b="1" lang="hu-HU" sz="4500" spc="-1" strike="noStrike">
                <a:solidFill>
                  <a:srgbClr val="006666"/>
                </a:solidFill>
                <a:latin typeface="Arial"/>
              </a:rPr>
              <a:t>Köszönöm figyelmüket!</a:t>
            </a:r>
            <a:br>
              <a:rPr sz="4500"/>
            </a:b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1839600"/>
            <a:ext cx="9617040" cy="4537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0"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6666"/>
                </a:solidFill>
                <a:latin typeface="Calibri"/>
              </a:rPr>
              <a:t>Fuchs Klaudia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6666"/>
                </a:solidFill>
                <a:latin typeface="Calibri"/>
              </a:rPr>
              <a:t>kfuchs@vati.hu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6666"/>
                </a:solidFill>
                <a:latin typeface="Calibri"/>
              </a:rPr>
              <a:t>Nemzeti kontroller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6666"/>
                </a:solidFill>
                <a:latin typeface="Calibri"/>
              </a:rPr>
              <a:t>VÁTI Nonprofit Kft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6666"/>
                </a:solidFill>
                <a:latin typeface="Calibri"/>
              </a:rPr>
              <a:t>Európai Együttműködési Programok Igazgatósága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6666"/>
                </a:solidFill>
                <a:latin typeface="Calibri"/>
              </a:rPr>
              <a:t>Központi Ellenőrzési Osztály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49240" y="544680"/>
            <a:ext cx="9617040" cy="8632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300" spc="-1" strike="noStrike">
                <a:solidFill>
                  <a:srgbClr val="006666"/>
                </a:solidFill>
                <a:latin typeface="Calibri"/>
              </a:rPr>
              <a:t>Az első </a:t>
            </a: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szintű</a:t>
            </a:r>
            <a:r>
              <a:rPr b="1" lang="hu-HU" sz="4300" spc="-1" strike="noStrike">
                <a:solidFill>
                  <a:srgbClr val="006666"/>
                </a:solidFill>
                <a:latin typeface="Calibri"/>
              </a:rPr>
              <a:t> ellenőrzés folyamata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Objektum 3"/>
          <p:cNvGraphicFramePr/>
          <p:nvPr/>
        </p:nvGraphicFramePr>
        <p:xfrm>
          <a:off x="1554120" y="1263600"/>
          <a:ext cx="8675640" cy="633744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52" name="Objektum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54120" y="1263600"/>
                    <a:ext cx="8675640" cy="633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A Partneri Jelenté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6000"/>
          </a:bodyPr>
          <a:p>
            <a:pPr marL="397440" indent="-397440">
              <a:spcBef>
                <a:spcPts val="624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Partneri Jelentés (Partner Progress Report, továbbiakban PPR) készítése előtt figyelmesen olvassanak el valamennyi kapcsolódó útmutatót (nyilvánosság, P.I.H, elszámolási útmutató, IMIR Front Office kézikönyv, stb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z aktuális partneri jelentés csomag a program honlapjáról letölthető </a:t>
            </a:r>
            <a:r>
              <a:rPr b="1" lang="hu-HU" sz="24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http://www.husk-cbc.eu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Minden projekt partner partneri jelentést készít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 az adott beszámolási időszakban megvalósított </a:t>
            </a:r>
            <a:r>
              <a:rPr b="0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saját projekt tevékenységeire,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 valamint az adott beszámolási időszakban</a:t>
            </a:r>
            <a:r>
              <a:rPr b="0" lang="hu-HU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felmerült és 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kifizetett 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(+15/30 nap)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 saját költségeire vonatkozóa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A PR nyelve: </a:t>
            </a:r>
            <a:r>
              <a:rPr b="1" lang="hu-HU" sz="2400" spc="-1" strike="noStrike">
                <a:solidFill>
                  <a:srgbClr val="ff0000"/>
                </a:solidFill>
                <a:latin typeface="Calibri"/>
              </a:rPr>
              <a:t>ANGO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8480" y="183960"/>
            <a:ext cx="10782360" cy="9363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A Partneri Jelentés alapja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7040" y="1120320"/>
            <a:ext cx="10269720" cy="5661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Támogatási szerződések (ERFA + hazai társfinanszírozás)</a:t>
            </a:r>
            <a:r>
              <a:rPr b="1" lang="hu-HU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és a pályázat</a:t>
            </a:r>
            <a:r>
              <a:rPr b="1" lang="hu-HU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(Application For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RFA TSZ: projekt szintű jelentés (LP felelősség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Társfinanszírozási TSZ: projektrész szintű jelenté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lszámolási időszak: Támogatási Szerződésben rögzített 4 havi ütemezés</a:t>
            </a:r>
            <a:r>
              <a:rPr b="1" lang="hu-HU" sz="24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Partneri jelentés benyújtásának határideje: jelentési időszak végétől számított 15 naptári nap (időközi), ill. 30 nap (záró)   - 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beérkezés dátuma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Költségfelmerülés hiányában jelenteni nem, DE értesíteni kell az első szintű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llenőrzé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A Partneri Jelentés benyújtása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9000"/>
          </a:bodyPr>
          <a:p>
            <a:pPr marL="509040" indent="-509040">
              <a:lnSpc>
                <a:spcPct val="90000"/>
              </a:lnSpc>
              <a:spcBef>
                <a:spcPts val="575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 u="sng">
                <a:solidFill>
                  <a:srgbClr val="006666"/>
                </a:solidFill>
                <a:uFillTx/>
                <a:latin typeface="Calibri"/>
              </a:rPr>
              <a:t>Papír alapon – egy eredeti és egy másolati példány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6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200" spc="-1" strike="noStrike">
                <a:solidFill>
                  <a:srgbClr val="ff0000"/>
                </a:solidFill>
                <a:latin typeface="Calibri"/>
              </a:rPr>
              <a:t>Eredeti példán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9360" indent="-452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Jelentés (PPR-szakmai és pénzügyi):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 a Projekt Partner által cégszerűen aláírt, lebélyegzett eredeti dokument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9360" indent="-452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számlák 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és/vagy azzal egyenértékű számviteli bizonylato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9360" indent="-452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nyilatkozato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9360" indent="-452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(alátámasztó dokumentumok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9360" indent="-452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meghatalmazás (amennyiben releván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hu-HU" sz="2200" spc="-1" strike="noStrike">
                <a:solidFill>
                  <a:srgbClr val="ff0000"/>
                </a:solidFill>
                <a:latin typeface="Calibri"/>
              </a:rPr>
              <a:t>Másolati példán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9360" indent="-452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számlákból és azon alátámasztó dokumentumokból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, melyek eredeti példánya a partner tulajdonát képezi és azokat visszakéri (helyszíni ellenőrzés alkalmával az FLC az eredeti dokumentumok meglétét ellenőrzi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Elektronikusan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       </a:t>
            </a: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IMIR 2007-2013 rendszer Front Office felületén keresztü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0" descr="IMG_0089"/>
          <p:cNvPicPr/>
          <p:nvPr/>
        </p:nvPicPr>
        <p:blipFill>
          <a:blip r:embed="rId2"/>
          <a:stretch/>
        </p:blipFill>
        <p:spPr>
          <a:xfrm>
            <a:off x="4002120" y="2992320"/>
            <a:ext cx="2600280" cy="17290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Partneri Jelentés benyújtásának formai követelményei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1154160" indent="-4143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54160" indent="-41436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Gyűrűs dossziéban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54160" indent="-41436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Cheklistnek megfelelően, költségvetési soronként elválasztv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9" descr="IMG_0086"/>
          <p:cNvPicPr/>
          <p:nvPr/>
        </p:nvPicPr>
        <p:blipFill>
          <a:blip r:embed="rId3"/>
          <a:stretch/>
        </p:blipFill>
        <p:spPr>
          <a:xfrm>
            <a:off x="1697040" y="3808440"/>
            <a:ext cx="1951200" cy="2600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1" descr="IMG_0088"/>
          <p:cNvPicPr/>
          <p:nvPr/>
        </p:nvPicPr>
        <p:blipFill>
          <a:blip r:embed="rId4"/>
          <a:stretch/>
        </p:blipFill>
        <p:spPr>
          <a:xfrm>
            <a:off x="4794120" y="5008680"/>
            <a:ext cx="2600280" cy="1950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2" descr="IMG_0087"/>
          <p:cNvPicPr/>
          <p:nvPr/>
        </p:nvPicPr>
        <p:blipFill>
          <a:blip r:embed="rId5"/>
          <a:stretch/>
        </p:blipFill>
        <p:spPr>
          <a:xfrm>
            <a:off x="7612200" y="3352680"/>
            <a:ext cx="2600280" cy="19512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7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44320" y="255240"/>
            <a:ext cx="10226520" cy="1081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Partneri jelentés tartalm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0320" y="1407600"/>
            <a:ext cx="10126800" cy="50403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Partneri jelentés (IMIR 2007-2013 rendszeren keresztü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6840" indent="-514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Szakmai előrehaladás (saját projektrész tevékenysége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6840" indent="-514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Pénzügyi elszámolás (felmerült és elszámolási időszakban (+15/30 nap) kifizetett költsége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Előleg elszámolás összesítő (IMIR 2007-2013 rendszeren keresztü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ÁFA nyilatkoz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Számlák/egyenértékű bizonylato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Alátámasztó dokumentumok – piaci ár igazolás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Checklist – benne partner nyilatkozata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Nyilatkozat a visszakért eredeti dokumentumokró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Nyilatkozat a projektben  résztvevő személyekrő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Amennyiben releváns: módosítások alátámasztó dokumentum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További segítség számunkra minden kiegészítő nyilatkoz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3400" y="75996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Szakmai jelenté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3400" y="1839600"/>
            <a:ext cx="9617040" cy="4653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megvalósított tevékenységek, elért eredmények a projekt kezdésétől a beszámolási időszak végéi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státuszjelentés a tevékenységekről (hol tart)- eltérések bemutatás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megvalósított tevékenységek, elért eredmények az adott beszámolási időszakban – partnersé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nyilvánosság kapcsán végzett tevékenysége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partnerekkel való együttműködé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felmerült problémá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elvégzett tevékenységek, elért eredmények leírás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Arial"/>
              </a:rPr>
              <a:t>i</a:t>
            </a: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ndikátoro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közbeszerzésekkel és piaci ár igazolással kapcsolatos információ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a jelentést a Projekt Partner cégszerű aláírásával és bélyegzőjével kell ellátn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Pénzügyi jelenté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5000"/>
          </a:bodyPr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projekthez kapcsolódó, az adott beszámolási időszakban felmerült és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 kifizetett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(+15/30 nap) 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költségeket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 tartalmazz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beszámolási időszak végéig</a:t>
            </a:r>
            <a:r>
              <a:rPr b="1" lang="hu-HU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felmerült, de a jelentés benyújtási határidejéig ki nem fizetett költségekről a következő beszámolási időszakban kell jelenten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kötelező a meghatározott formátumban benyújtan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redeti számlákat (egy másolati példánnyal együtt) szükséges benyújtani, amit hitelesítő bélyegzővel ellátva visszaküldün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látámasztó dokumentumok (pl. szerződések, teljesítés igazolások, „végtermékek”, stb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PPR benyújtása előtt javasolt a dokumentáció teljességének ellenőrzése (Checklist alapjá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kitöltésében segítség a Front Office kéziköny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7T13:57:28Z</dcterms:created>
  <dc:creator>vati user</dc:creator>
  <dc:description/>
  <dc:language>en-US</dc:language>
  <cp:lastModifiedBy>SzucsJulia</cp:lastModifiedBy>
  <cp:lastPrinted>2012-09-25T08:54:08Z</cp:lastPrinted>
  <dcterms:modified xsi:type="dcterms:W3CDTF">2012-10-18T13:51:33Z</dcterms:modified>
  <cp:revision>180</cp:revision>
  <dc:subject/>
  <dc:title>1. dia</dc:title>
</cp:coreProperties>
</file>