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ACF2-FBB7-4468-8C98-722BC187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B8E6-A59E-4A92-A83D-00758872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DFC0-E03C-42E2-AB40-ADFED3A1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7A90-A550-4B71-B5FE-3508A6B0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019D-BDB6-448B-AB50-CFD6ABDA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4C9D-BC15-47DB-B8DB-1ABA5A80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FE27-A669-4FFF-B0F0-94CA69CE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1A2B-AE54-49E8-A1C1-EE6BE5EE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C906-3CAD-4735-B79C-E866A5EC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FA58-F133-452E-9185-F732F813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D31A-BCE8-4DE8-9092-0EFC8600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B7AC-2096-43B5-B9B2-26845C94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751B-35EC-4F90-8CC0-BD423FC2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5094-0AA1-4553-9980-4A53AB80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72D8-C874-4AF8-B562-1384A7FB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4273-A02C-4314-83C9-502E1496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D66A-A772-4BBA-BE6B-12059BC5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D8299-FA93-43A4-86DF-3C91938C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4A3A1-64ED-4528-9200-004DC5A8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33E13-C1C1-450A-90D7-02B40B4C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FF835-8D57-4BAC-8156-6181DBDE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4EBE4-9551-415E-A680-1BB0D461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3C8B-B720-49B3-8C36-925B8506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106EB-017C-4E67-9F56-76F13E31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0DBE6-09FB-4790-904E-0F57A1BC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FD1EB-8BDF-4B6C-8484-A3DDE5EC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7EBF3-4718-42E7-9F4A-C4B88FFF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B2595-2BC1-4611-8D9C-51834C43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7A1B5-B2FC-4A8A-907B-B10763F3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3F5A0-9ED2-4FB2-9C5D-5A197083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45F-76CA-4582-953F-C5467033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C6E5-9F4F-41DF-B843-39FCDE26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E973-BEF5-49A2-A860-C2485542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EBD5-942B-4E4F-A5B9-D244A730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C26-F7C4-4EFF-BD44-0A8F612E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4815-03E2-4044-85E7-CB9D5070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7CEA-4761-4C97-BEE9-7D9102CECA6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C5A1-7A0B-4D1B-9194-D870775AFE67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F08B-4C47-481D-A92C-DF436FAE166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08000" y="1557360"/>
            <a:ext cx="5328000" cy="2448000"/>
          </a:xfrm>
          <a:prstGeom prst="rect">
            <a:avLst/>
          </a:prstGeom>
        </p:spPr>
        <p:txBody>
          <a:bodyPr wrap="none" lIns="110160" rIns="110160" tIns="55080" bIns="55080" anchor="t" anchorCtr="1">
            <a:prstTxWarp prst="textPlain">
              <a:avLst>
                <a:gd name="adj" fmla="val 52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gram cezhraničnej spolupráce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ďarská republika- Slovenská republik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07-2013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535400" y="4508640"/>
            <a:ext cx="6009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chválenie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. december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Identifikačné číslo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07CB163PO0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31960" y="5495760"/>
            <a:ext cx="19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g. Zsolt Törö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Bratislava, 28.0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280" y="1197000"/>
            <a:ext cx="864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abezpečená finančná alokácia za prísne definovaných podmien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dborné pozadie, transfer know-how, 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Ne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, posilnenie nových/existujúcich partnerstiev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/posilnenie komunikácie na úrovni vertikálnej a horizontál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ealizácia „zdola“ (bottom-up) vychádzajúcich rozvojových zámerov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silnenie konkurencieschopnosti regiónov,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7800" y="3510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ínos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22200" y="981000"/>
          <a:ext cx="8353440" cy="5106960"/>
        </p:xfrm>
        <a:graphic>
          <a:graphicData uri="http://schemas.openxmlformats.org/drawingml/2006/table">
            <a:tbl>
              <a:tblPr/>
              <a:tblGrid>
                <a:gridCol w="2089080"/>
                <a:gridCol w="2089440"/>
                <a:gridCol w="2085840"/>
                <a:gridCol w="2089080"/>
              </a:tblGrid>
              <a:tr h="107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are CBC (Cross-border Co-operation) 2001-20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nd mal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susedstva HUSKUA 2004-20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cezhraničnej spolupráce HUSK 2007-2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čná aloká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372 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372 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8 522 875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5 548 000 EUR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 014 05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y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Zrkadlový, - Doplňujú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exemplár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7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5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2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podporen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 program (HU0109): 9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program (2002/000-604): 11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čakávania program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zhraničný dop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valá udržateľ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vnosť šanc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kritéri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íp vedúceho partne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7094160" y="32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volúcia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119700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..... prebieha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3.výzva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na prekladanie projektov,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do 28.02.2011, 23.59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5280" y="3510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mentáln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15394" t="21474" r="13619" b="28986"/>
          <a:stretch/>
        </p:blipFill>
        <p:spPr>
          <a:xfrm>
            <a:off x="539640" y="1844640"/>
            <a:ext cx="77043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56360" y="35100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merujem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552680"/>
            <a:ext cx="885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..... k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.výzv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na prekladanie projekt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ý termín zverejnen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2.štvrťrok 2011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á alokác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cca.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8 M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lasti podpory: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 ?, predmetom rokovania SM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1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45 009 737,12 EUR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246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6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2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64 635 978,32 EUR, (270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7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edp. finančná alokácia 3. výzvy (EUR)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10 500 000,00 (?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flipV="1" rot="10800000">
            <a:off x="5586480" y="1051560"/>
            <a:ext cx="324000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ioritné osy a oblasti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2565360"/>
            <a:ext cx="399924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1 </a:t>
            </a:r>
            <a:br>
              <a:rPr sz="1700"/>
            </a:b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Hospodárstvo a spoločnosť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41% (85 133 59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700"/>
            </a:br>
            <a:r>
              <a:rPr b="1" lang="pl-PL" sz="1700" spc="-1" strike="noStrike">
                <a:solidFill>
                  <a:srgbClr val="000000"/>
                </a:solidFill>
                <a:latin typeface="Arial"/>
              </a:rPr>
              <a:t>ŽP, ochrana prírody a dostupnos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53% (110 050 746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700"/>
            </a:b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Technická asist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6% (12 458 57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716000" y="1773360"/>
            <a:ext cx="647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-27000"/>
            <a:ext cx="4629240" cy="6867360"/>
            <a:chOff x="0" y="-27000"/>
            <a:chExt cx="4629240" cy="6867360"/>
          </a:xfrm>
        </p:grpSpPr>
        <p:sp>
          <p:nvSpPr>
            <p:cNvPr id="139" name=""/>
            <p:cNvSpPr/>
            <p:nvPr/>
          </p:nvSpPr>
          <p:spPr>
            <a:xfrm>
              <a:off x="0" y="-27000"/>
              <a:ext cx="4629240" cy="6867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7680" y="161280"/>
              <a:ext cx="2296440" cy="7221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ogram cezhraničnej spoluprá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Maďarsko -Slovens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2007 - 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14440" y="864360"/>
              <a:ext cx="0" cy="54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6480" y="1026720"/>
              <a:ext cx="16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48824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8888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4480" y="1135080"/>
              <a:ext cx="156744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Hospodárstvo a spoloč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1832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8680" y="1730160"/>
              <a:ext cx="0" cy="42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440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210200" y="1730160"/>
              <a:ext cx="11520" cy="362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8480" y="1135080"/>
              <a:ext cx="156780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ŽP,</a:t>
              </a: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chrana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 dostup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4480" y="189252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upráce     v oblasti hospodárstva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480" y="254124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upráca v oblasti V&amp;V a inováci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8480" y="189252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             na podporu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08480" y="27579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8680" y="2216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8680" y="28652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64400" y="2270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97000" y="6326280"/>
              <a:ext cx="2236320" cy="3776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Technická asist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4480" y="319068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očného rozvoja turizm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4480" y="3785760"/>
              <a:ext cx="1555920" cy="64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ý rozvoj a koordinované využívanie zdravotníckych zariadení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4480" y="4542480"/>
              <a:ext cx="1555920" cy="48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5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Rozvoj sieťovania,partnerstva,  prog. &amp; proj. kapacít manažm.</a:t>
              </a: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480" y="513756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využívanie a rozvoj ľudských zdroj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4480" y="5786280"/>
              <a:ext cx="1555920" cy="38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ktivity Ľudia ľuď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8680" y="3459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8680" y="41637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8680" y="47588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8680" y="52999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8680" y="60022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8480" y="340668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Výstavba maloplošných komunikácií, cyklistických trás, verejná doprav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08480" y="4272120"/>
              <a:ext cx="1549440" cy="7081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abezpečenie lepších hraničných prechodov cez prihraničné rie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08480" y="51375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lepšenie komunikačných kanál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64400" y="3135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400" y="383940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4400" y="45424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64400" y="53535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Szöveg helye 2"/>
          <p:cNvGraphicFramePr/>
          <p:nvPr/>
        </p:nvGraphicFramePr>
        <p:xfrm>
          <a:off x="2211480" y="115920"/>
          <a:ext cx="4592520" cy="6121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7" name="Szöveg hely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1480" y="115920"/>
                    <a:ext cx="45925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42920" y="1989000"/>
            <a:ext cx="889308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765000"/>
            <a:ext cx="216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vostupňová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artnera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MPaRV S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372000" y="1125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328464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ruhostupňová 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rojekt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STS Program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0+30 d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372000" y="3789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360" y="1076400"/>
            <a:ext cx="150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aždý part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 s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440" y="338760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edúci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148428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364500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56360" y="3510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kúsenosti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1268280"/>
            <a:ext cx="8856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MIS (podávanie ŽoNFP, monitorovacia správa na úrovni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ľúbené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menej obľúbené oblasti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pružné/nasilu vytvorené partnerstvá (počet partnerov, hodnotenie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implementác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ostatočná komunikácia (vertikálna, horizontál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sotatočné finančné zázemie (finančná kríz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únosné množstvo žiadostí o zmenu projektu (realokácia financií, zmena manažérov, predĺženie projektu,.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dstúpenie od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+3/2 parvid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ízka kvalita predložených monitorovacích sprá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adhotnotené indiká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ublicity guide (striktné predpisy),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9280" y="184464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Ďakujem za pozornosť a v mene 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ám prajem veľa úspech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 implementáci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zabúdajte: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ak máte pochybnos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pýtajte sa!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y sme tu pre Vás a Vy ste tu pre nás </a:t>
            </a:r>
            <a:r>
              <a:rPr b="0" lang="sk-SK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9:42:45Z</dcterms:created>
  <dc:creator>thomas</dc:creator>
  <dc:description/>
  <dc:language>en-US</dc:language>
  <cp:lastModifiedBy>TorokZsolt</cp:lastModifiedBy>
  <dcterms:modified xsi:type="dcterms:W3CDTF">2011-02-25T11:03:08Z</dcterms:modified>
  <cp:revision>39</cp:revision>
  <dc:subject/>
  <dc:title>1. dia</dc:title>
</cp:coreProperties>
</file>